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19240" cy="4953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14560" y="0"/>
            <a:ext cx="2919240" cy="495360"/>
          </a:xfrm>
          <a:prstGeom prst="rect">
            <a:avLst/>
          </a:prstGeom>
          <a:noFill/>
          <a:ln w="0">
            <a:noFill/>
          </a:ln>
        </p:spPr>
        <p:txBody>
          <a:bodyPr lIns="90720" rIns="90720" tIns="45360" bIns="453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7680" y="1233360"/>
            <a:ext cx="4440240" cy="3330720"/>
          </a:xfrm>
          <a:prstGeom prst="rect">
            <a:avLst/>
          </a:prstGeom>
          <a:noFill/>
          <a:ln w="12600">
            <a:solidFill>
              <a:srgbClr val="000000"/>
            </a:solidFill>
            <a:miter/>
          </a:ln>
        </p:spPr>
        <p:txBody>
          <a:bodyPr lIns="90720" rIns="90720" tIns="45360" bIns="4536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72840" y="4747680"/>
            <a:ext cx="5389560" cy="3884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500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14560" y="9370800"/>
            <a:ext cx="2919240" cy="49500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60C98-CDF6-40E8-BACC-155D34C4799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7680" y="1233360"/>
            <a:ext cx="4440240" cy="3330720"/>
          </a:xfrm>
          <a:prstGeom prst="rect">
            <a:avLst/>
          </a:prstGeom>
          <a:ln w="0">
            <a:noFill/>
          </a:ln>
        </p:spPr>
      </p:sp>
      <p:sp>
        <p:nvSpPr>
          <p:cNvPr id="103" name="PlaceHolder 2"/>
          <p:cNvSpPr>
            <a:spLocks noGrp="1"/>
          </p:cNvSpPr>
          <p:nvPr>
            <p:ph type="body"/>
          </p:nvPr>
        </p:nvSpPr>
        <p:spPr>
          <a:xfrm>
            <a:off x="672840" y="4747680"/>
            <a:ext cx="5389560" cy="388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14920" y="9371160"/>
            <a:ext cx="2919240" cy="4950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FE98-35B1-48AA-A3EE-AE1505351D8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53A24-8658-4AFF-9011-72664F49B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D0238-2452-449B-9042-D1D26DBED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0BDD4-E3B7-4197-BA8D-11353FAC5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07B3B-9E9B-4083-AD43-FC993465D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7F94D-E951-4C9C-AC20-13EA35645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1AB1E-9647-41ED-8576-A7E968DAC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EA62F-62FB-44C3-8B03-AEDD55CD8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05DC9-85B3-4C8F-A871-0C5B45A14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10285-9CB4-4005-8CEF-285101674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ADF72-13FE-4117-98A0-A8B554208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9714D-42BE-41E5-8DE7-A28F1D965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7FFC3-4275-486B-8217-13103B6AB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D6ED5-9952-4951-A907-AA10F2A34BF5}" type="slidenum">
              <a:rPr b="0" lang="en-US" sz="900" spc="-1" strike="noStrike">
                <a:solidFill>
                  <a:srgbClr val="898989"/>
                </a:solidFill>
                <a:latin typeface="Tahoma"/>
              </a:rPr>
              <a:t>&lt;number&gt;</a:t>
            </a:fld>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837720"/>
            <a:ext cx="7924680" cy="25146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Times New Roman"/>
                <a:ea typeface="Times New Roman"/>
              </a:rPr>
              <a:t>QUY ĐỊNH CỦA PHÁP LUẬT VỀ </a:t>
            </a:r>
            <a:br>
              <a:rPr sz="3200"/>
            </a:br>
            <a:r>
              <a:rPr b="1" lang="en-US" sz="3200" spc="-1" strike="noStrike">
                <a:solidFill>
                  <a:srgbClr val="000000"/>
                </a:solidFill>
                <a:latin typeface="Times New Roman"/>
                <a:ea typeface="Times New Roman"/>
              </a:rPr>
              <a:t>XỬ LÝ VI PHẠM HÀNH CHÍNH VÀ </a:t>
            </a:r>
            <a:br>
              <a:rPr sz="3200"/>
            </a:br>
            <a:r>
              <a:rPr b="1" lang="en-US" sz="3200" spc="-1" strike="noStrike">
                <a:solidFill>
                  <a:srgbClr val="000000"/>
                </a:solidFill>
                <a:latin typeface="Times New Roman"/>
                <a:ea typeface="Times New Roman"/>
              </a:rPr>
              <a:t>XỬ LÝ HÌNH SỰ ĐỐI VỚI HÀNH VI </a:t>
            </a:r>
            <a:br>
              <a:rPr sz="3200"/>
            </a:br>
            <a:r>
              <a:rPr b="1" lang="en-US" sz="3200" spc="-1" strike="noStrike">
                <a:solidFill>
                  <a:srgbClr val="000000"/>
                </a:solidFill>
                <a:latin typeface="Times New Roman"/>
                <a:ea typeface="Times New Roman"/>
              </a:rPr>
              <a:t>VI PHẠM TRÊN KHÔNG GIAN MẠNG</a:t>
            </a:r>
            <a:endParaRPr b="0" lang="en-US" sz="3200" spc="-1" strike="noStrike">
              <a:solidFill>
                <a:srgbClr val="000000"/>
              </a:solidFill>
              <a:latin typeface="Calibri Light"/>
            </a:endParaRPr>
          </a:p>
        </p:txBody>
      </p:sp>
      <p:sp>
        <p:nvSpPr>
          <p:cNvPr id="49" name="PlaceHolder 2"/>
          <p:cNvSpPr>
            <a:spLocks noGrp="1"/>
          </p:cNvSpPr>
          <p:nvPr>
            <p:ph type="subTitle"/>
          </p:nvPr>
        </p:nvSpPr>
        <p:spPr>
          <a:xfrm>
            <a:off x="2514240" y="4419720"/>
            <a:ext cx="5791320" cy="1371600"/>
          </a:xfrm>
          <a:prstGeom prst="rect">
            <a:avLst/>
          </a:prstGeom>
          <a:noFill/>
          <a:ln w="0">
            <a:noFill/>
          </a:ln>
        </p:spPr>
        <p:txBody>
          <a:bodyPr anchor="t">
            <a:noAutofit/>
          </a:bodyPr>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TS. Lê Thị Vân Anh</a:t>
            </a:r>
            <a:endParaRPr b="0" lang="en-US" sz="2000" spc="-1" strike="noStrike">
              <a:solidFill>
                <a:srgbClr val="000000"/>
              </a:solidFill>
              <a:latin typeface="Calibri"/>
            </a:endParaRPr>
          </a:p>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Phó Vụ trưởng, Vụ PL Hình sự - Hành chính,                                                    </a:t>
            </a:r>
            <a:endParaRPr b="0" lang="en-US" sz="2000" spc="-1" strike="noStrike">
              <a:solidFill>
                <a:srgbClr val="000000"/>
              </a:solidFill>
              <a:latin typeface="Calibri"/>
            </a:endParaRPr>
          </a:p>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Bộ Tư phá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ounded Rectangle 2"/>
          <p:cNvSpPr/>
          <p:nvPr/>
        </p:nvSpPr>
        <p:spPr>
          <a:xfrm>
            <a:off x="1523880" y="1447920"/>
            <a:ext cx="6934320" cy="3504960"/>
          </a:xfrm>
          <a:prstGeom prst="roundRect">
            <a:avLst>
              <a:gd name="adj" fmla="val 16667"/>
            </a:avLst>
          </a:prstGeom>
          <a:solidFill>
            <a:srgbClr val="9dc3e6"/>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QUY ĐỊNH CỦA </a:t>
            </a:r>
            <a:endParaRPr b="0" lang="en-US" sz="4400" spc="-1" strike="noStrike">
              <a:solidFill>
                <a:srgbClr val="000000"/>
              </a:solidFill>
              <a:latin typeface="Tahoma"/>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HÁP LUẬT HÌNH SỰ</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ounded Rectangle 7"/>
          <p:cNvSpPr/>
          <p:nvPr/>
        </p:nvSpPr>
        <p:spPr>
          <a:xfrm>
            <a:off x="914400" y="685800"/>
            <a:ext cx="7696080" cy="5867280"/>
          </a:xfrm>
          <a:prstGeom prst="roundRect">
            <a:avLst>
              <a:gd name="adj" fmla="val 16667"/>
            </a:avLst>
          </a:prstGeom>
          <a:solidFill>
            <a:srgbClr val="ffffff"/>
          </a:solidFill>
          <a:ln w="12600">
            <a:solidFill>
              <a:srgbClr val="5b9bd5"/>
            </a:solidFill>
            <a:miter/>
          </a:ln>
        </p:spPr>
        <p:style>
          <a:lnRef idx="0"/>
          <a:fillRef idx="0"/>
          <a:effectRef idx="0"/>
          <a:fontRef idx="minor"/>
        </p:style>
        <p:txBody>
          <a:bodyPr lIns="90000" rIns="90000" tIns="46800" bIns="46800" anchor="t">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Sử dụng mạng máy tính, mạng viễn thông, phương tiện điện tử khi phạm tội có thể coi là tình tiết tăng nặng TNHS đối với tất cả các tội phạm</a:t>
            </a:r>
            <a:endParaRPr b="0" lang="en-US" sz="32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t>
            </a:r>
            <a:r>
              <a:rPr b="0" i="1" lang="en-US" sz="3200" spc="-1" strike="noStrike">
                <a:solidFill>
                  <a:srgbClr val="000000"/>
                </a:solidFill>
                <a:latin typeface="Times New Roman"/>
                <a:ea typeface="Times New Roman"/>
              </a:rPr>
              <a:t>Sử dụng mạng máy tính, mạng viễn thông, phương tiện điện tử để phạm tội” </a:t>
            </a:r>
            <a:r>
              <a:rPr b="0" lang="en-US" sz="3200" spc="-1" strike="noStrike">
                <a:solidFill>
                  <a:srgbClr val="000000"/>
                </a:solidFill>
                <a:latin typeface="Times New Roman"/>
                <a:ea typeface="Times New Roman"/>
              </a:rPr>
              <a:t>là tình tiết định khung tăng nặng TNHS của 05 tội phạm cụ thể.</a:t>
            </a:r>
            <a:endParaRPr b="0" lang="en-US" sz="32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Một số tội danh cụ thể trong lĩnh vực CNTT, mạng viễn thô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28240"/>
            <a:ext cx="788688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Arial"/>
                <a:ea typeface="Arial"/>
              </a:rPr>
              <a:t>Tình tiết tăng nặng TNHS </a:t>
            </a:r>
            <a:br>
              <a:rPr sz="3600"/>
            </a:br>
            <a:r>
              <a:rPr b="1" lang="en-US" sz="3600" spc="-1" strike="noStrike">
                <a:solidFill>
                  <a:srgbClr val="000000"/>
                </a:solidFill>
                <a:latin typeface="Arial"/>
                <a:ea typeface="Arial"/>
              </a:rPr>
              <a:t>của các tội danh trong BLHS</a:t>
            </a:r>
            <a:endParaRPr b="0" lang="en-US" sz="3600" spc="-1" strike="noStrike">
              <a:solidFill>
                <a:srgbClr val="000000"/>
              </a:solidFill>
              <a:latin typeface="Calibri Light"/>
            </a:endParaRPr>
          </a:p>
        </p:txBody>
      </p:sp>
      <p:sp>
        <p:nvSpPr>
          <p:cNvPr id="65" name=""/>
          <p:cNvSpPr txBox="1"/>
          <p:nvPr/>
        </p:nvSpPr>
        <p:spPr>
          <a:xfrm>
            <a:off x="837720" y="1676160"/>
            <a:ext cx="7543800" cy="46479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Điều 52 BLHS:</a:t>
            </a:r>
            <a:endParaRPr b="0" lang="en-US" sz="2800" spc="-1" strike="noStrike">
              <a:solidFill>
                <a:srgbClr val="000000"/>
              </a:solidFill>
              <a:latin typeface="Calibri"/>
            </a:endParaRPr>
          </a:p>
          <a:p>
            <a:pPr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Dùng thủ đoạn tinh vi, xảo quyệt để phạm tội (điểm m khoản 1);</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Dùng thủ đoạn hoặc phương tiện có khả năng gây nguy hại cho nhiều người để phạm tội (điểm n khoản 1).</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VD: tội lợi dụng quyền tự do dân chủ xâm phạm lợi ích của NN, quyền và lợi ích hợp pháp của tổ chức, cá nhân – Đ33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228240"/>
            <a:ext cx="788688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Tình tiết định khung tăng nặng TNHS </a:t>
            </a:r>
            <a:br>
              <a:rPr sz="3200"/>
            </a:br>
            <a:r>
              <a:rPr b="1" lang="en-US" sz="3200" spc="-1" strike="noStrike">
                <a:solidFill>
                  <a:srgbClr val="000000"/>
                </a:solidFill>
                <a:latin typeface="Arial"/>
                <a:ea typeface="Arial"/>
              </a:rPr>
              <a:t>của 05 tội danh trong BLHS</a:t>
            </a:r>
            <a:endParaRPr b="0" lang="en-US" sz="3200" spc="-1" strike="noStrike">
              <a:solidFill>
                <a:srgbClr val="000000"/>
              </a:solidFill>
              <a:latin typeface="Calibri Light"/>
            </a:endParaRPr>
          </a:p>
        </p:txBody>
      </p:sp>
      <p:sp>
        <p:nvSpPr>
          <p:cNvPr id="67" name=""/>
          <p:cNvSpPr txBox="1"/>
          <p:nvPr/>
        </p:nvSpPr>
        <p:spPr>
          <a:xfrm>
            <a:off x="837720" y="1905120"/>
            <a:ext cx="7543800" cy="44193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1</a:t>
            </a:r>
            <a:r>
              <a:rPr b="1" i="1" lang="en-US" sz="3200" spc="-1" strike="noStrike">
                <a:solidFill>
                  <a:srgbClr val="000000"/>
                </a:solidFill>
                <a:latin typeface="Arial"/>
                <a:ea typeface="Arial"/>
              </a:rPr>
              <a:t>. Điều 155. Tội làm nhục người </a:t>
            </a:r>
            <a:r>
              <a:rPr b="1" lang="en-US" sz="3200" spc="-1" strike="noStrike">
                <a:solidFill>
                  <a:srgbClr val="000000"/>
                </a:solidFill>
                <a:latin typeface="Arial"/>
                <a:ea typeface="Arial"/>
              </a:rPr>
              <a:t>khác</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Xúc phạm nghiêm trọng danh dự, nhân phẩm người khác: phạt tiền từ 10 – 30 triệu đồng hoặc CTKGG đến 3 năm.</a:t>
            </a:r>
            <a:endParaRPr b="0" lang="en-US" sz="3200" spc="-1" strike="noStrike">
              <a:solidFill>
                <a:srgbClr val="000000"/>
              </a:solidFill>
              <a:latin typeface="Calibri"/>
            </a:endParaRPr>
          </a:p>
          <a:p>
            <a:pPr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Sử dụng mạng máy tính, mạng viễn thông, phương tiện điện tử để phạm tội: phạt tù 03 tháng – 02 năm (điểm e K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837720" y="228240"/>
            <a:ext cx="7543800" cy="60958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2</a:t>
            </a:r>
            <a:r>
              <a:rPr b="1" i="1" lang="en-US" sz="3200" spc="-1" strike="noStrike">
                <a:solidFill>
                  <a:srgbClr val="000000"/>
                </a:solidFill>
                <a:latin typeface="Arial"/>
                <a:ea typeface="Arial"/>
              </a:rPr>
              <a:t>. Điều 156. Tội vu khống</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
        <p:nvSpPr>
          <p:cNvPr id="69" name="Rounded Rectangle 1"/>
          <p:cNvSpPr/>
          <p:nvPr/>
        </p:nvSpPr>
        <p:spPr>
          <a:xfrm>
            <a:off x="609480" y="914400"/>
            <a:ext cx="8153640" cy="3809880"/>
          </a:xfrm>
          <a:prstGeom prst="roundRect">
            <a:avLst>
              <a:gd name="adj" fmla="val 16667"/>
            </a:avLst>
          </a:prstGeom>
          <a:solidFill>
            <a:srgbClr val="ffffff"/>
          </a:solidFill>
          <a:ln w="12600">
            <a:solidFill>
              <a:srgbClr val="447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CTKGG đến 02 năm hoặc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tù từ 03 tháng đến 01 năm:</a:t>
            </a:r>
            <a:endParaRPr b="0" lang="en-US" sz="28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Bịa đặt hoặc lan truyền những điều biết rõ là sai sự thật nhằm xúc phạm nghiêm trọng nhân phẩm, danh dự hoặc gây thiệt hại đến quyền, lợi ích hợp pháp của người khác;</a:t>
            </a:r>
            <a:endParaRPr b="0" lang="en-US" sz="28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Bịa đặt người khác phạm tội và tố cáo họ trước cơ quan có thẩm quyền.</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 name="Rounded Rectangle 3"/>
          <p:cNvSpPr/>
          <p:nvPr/>
        </p:nvSpPr>
        <p:spPr>
          <a:xfrm>
            <a:off x="762120" y="4876920"/>
            <a:ext cx="7924680" cy="160020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tù từ 01 năm đến 03 năm:</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ử dụng mạng máy tính, mạng viễn thông, phương tiện điện tử để phạm tội (điểm e K 2)</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837720" y="228240"/>
            <a:ext cx="7543800" cy="60958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3</a:t>
            </a:r>
            <a:r>
              <a:rPr b="1" i="1" lang="en-US" sz="3200" spc="-1" strike="noStrike">
                <a:solidFill>
                  <a:srgbClr val="000000"/>
                </a:solidFill>
                <a:latin typeface="Arial"/>
                <a:ea typeface="Arial"/>
              </a:rPr>
              <a:t>. Điều 321. Tội đánh bạc</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
        <p:nvSpPr>
          <p:cNvPr id="72" name="Rounded Rectangle 1"/>
          <p:cNvSpPr/>
          <p:nvPr/>
        </p:nvSpPr>
        <p:spPr>
          <a:xfrm>
            <a:off x="609480" y="914400"/>
            <a:ext cx="8153640" cy="3505320"/>
          </a:xfrm>
          <a:prstGeom prst="roundRect">
            <a:avLst>
              <a:gd name="adj" fmla="val 16667"/>
            </a:avLst>
          </a:prstGeom>
          <a:solidFill>
            <a:srgbClr val="ffffff"/>
          </a:solidFill>
          <a:ln w="12600">
            <a:solidFill>
              <a:srgbClr val="447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Phạt tiền từ 20 tr đến 100 tr đồng, phạt CTKGG đến 03 năm  hoặc phạt tù từ 06 tháng đến 03 năm:</a:t>
            </a:r>
            <a:endParaRPr b="0" lang="en-US" sz="26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Đánh bạc dưới bất kỳ hình thức nào được thua bằng tiền hay hiện vật trị giá từ 5 triệu đồng trở lên hoặc dưới 5 triệu đồng nhưng đã bị XPVPHC về hành vi này hoặc hành vi tổ chức đánh bạc hoặc đã bị kết án về tội này hoặc tội tổ chức đánh bạc, chưa được XAT mà còn vi phạm.</a:t>
            </a: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 name="Rounded Rectangle 3"/>
          <p:cNvSpPr/>
          <p:nvPr/>
        </p:nvSpPr>
        <p:spPr>
          <a:xfrm>
            <a:off x="762120" y="4648320"/>
            <a:ext cx="7924680" cy="198108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tù từ 03 năm đến 07 năm:</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ử dụng mạng internet, mạng máy tính, mạng viễn thông, phương tiện điện tử để phạm tội (điểm c K 2)</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6840" y="152280"/>
            <a:ext cx="7924680" cy="609624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4</a:t>
            </a:r>
            <a:r>
              <a:rPr b="1" i="1" lang="en-US" sz="3200" spc="-1" strike="noStrike">
                <a:solidFill>
                  <a:srgbClr val="000000"/>
                </a:solidFill>
                <a:latin typeface="Arial"/>
                <a:ea typeface="Arial"/>
              </a:rPr>
              <a:t>. Điều 322. Tội  tổ chức đánh bạc</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
        <p:nvSpPr>
          <p:cNvPr id="75" name="Rounded Rectangle 8"/>
          <p:cNvSpPr/>
          <p:nvPr/>
        </p:nvSpPr>
        <p:spPr>
          <a:xfrm>
            <a:off x="457200" y="966960"/>
            <a:ext cx="8458200" cy="4267080"/>
          </a:xfrm>
          <a:prstGeom prst="roundRect">
            <a:avLst>
              <a:gd name="adj" fmla="val 16667"/>
            </a:avLst>
          </a:prstGeom>
          <a:solidFill>
            <a:srgbClr val="ffffff"/>
          </a:solidFill>
          <a:ln w="12600">
            <a:solidFill>
              <a:srgbClr val="447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Phạt tiền từ 50 tr đến 300 tr đồng hoặc phạt tù từ 01 năm đến 05 năm:</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Tổ chức cho 10 người hoặc 02 chiếu bạc trở lên đánh bạc cùng một lúc mà tổng số tiền, hiện vật dùng đánh bạc trị giá 05 tr đồng trở lên;</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Sử dụng địa điểm thuộc quyền sở hữu hoặc quản lý của mình tổ chức đánh bạc;</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Tổng số tiền, hiện vật dùng đánh bạc trong cùng một lần trị giá 20 tr trở lên;</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ó tổ chức nơi cầm cố TS cho người tham gia đánh bạc; có lắp đặt trang thiết bị phục vụ đánh bạc hoặc phân công người canh gác, người phục vụ; sắp đặt lối thoát khi bị vây bắt, sử dụng phương tiện trợ giúp đánh bạc;</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Đã bị XPVPHC hoặc đã bị kết án về tội này hoặc tội đánh bạc.</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6" name="Rounded Rectangle 9"/>
          <p:cNvSpPr/>
          <p:nvPr/>
        </p:nvSpPr>
        <p:spPr>
          <a:xfrm>
            <a:off x="457200" y="5257800"/>
            <a:ext cx="8458200" cy="137160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Phạt tù từ 05 năm đến 10 năm:</a:t>
            </a: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ử dụng mạng internet, mạng máy tính, mạng viễn thông, phương tiện điện tử để phạm tội (điểm c K 2).</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609120" y="228240"/>
            <a:ext cx="8153640" cy="60958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5</a:t>
            </a:r>
            <a:r>
              <a:rPr b="1" i="1" lang="en-US" sz="3200" spc="-1" strike="noStrike">
                <a:solidFill>
                  <a:srgbClr val="000000"/>
                </a:solidFill>
                <a:latin typeface="Arial"/>
                <a:ea typeface="Arial"/>
              </a:rPr>
              <a:t>. Điều 326. Tội truyền bá VHP đồi truỵ</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
        <p:nvSpPr>
          <p:cNvPr id="78" name="Rounded Rectangle 1"/>
          <p:cNvSpPr/>
          <p:nvPr/>
        </p:nvSpPr>
        <p:spPr>
          <a:xfrm>
            <a:off x="609480" y="1066680"/>
            <a:ext cx="8153640" cy="3200400"/>
          </a:xfrm>
          <a:prstGeom prst="roundRect">
            <a:avLst>
              <a:gd name="adj" fmla="val 16667"/>
            </a:avLst>
          </a:prstGeom>
          <a:solidFill>
            <a:srgbClr val="ffffff"/>
          </a:solidFill>
          <a:ln w="12600">
            <a:solidFill>
              <a:srgbClr val="447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tiền từ 10 tr đến 100 tr đồng, phạt CTKGG đến 03 năm hoặc phạt tù từ 06 tháng đến 03 năm:</a:t>
            </a:r>
            <a:endParaRPr b="0" lang="en-US" sz="28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ea typeface="Arial"/>
              </a:rPr>
              <a:t>Làm ra, sao chép, lưu hành, vận chuyển, mua bán, tàng trữ nhằm phổ biến sách, báo, tranh, ảnh, phim, nhạc hoặc vật phẩm khác có nội dung khiêu dâm, đồi truỵ với mức định lượng theo quy định.</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Rounded Rectangle 3"/>
          <p:cNvSpPr/>
          <p:nvPr/>
        </p:nvSpPr>
        <p:spPr>
          <a:xfrm>
            <a:off x="609480" y="4724280"/>
            <a:ext cx="8077320" cy="190512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tù từ 03 năm đến 10 năm:</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ử dụng mạng internet, mạng máy tính, mạng viễn thông hoặc phương tiện điện tử để phạm tội (điểm g K 2).</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0492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Một số tội danh cụ thể</a:t>
            </a:r>
            <a:endParaRPr b="0" lang="en-US" sz="4000" spc="-1" strike="noStrike">
              <a:solidFill>
                <a:srgbClr val="000000"/>
              </a:solidFill>
              <a:latin typeface="Calibri Light"/>
            </a:endParaRPr>
          </a:p>
        </p:txBody>
      </p:sp>
      <p:sp>
        <p:nvSpPr>
          <p:cNvPr id="81" name=""/>
          <p:cNvSpPr txBox="1"/>
          <p:nvPr/>
        </p:nvSpPr>
        <p:spPr>
          <a:xfrm>
            <a:off x="628560" y="1371240"/>
            <a:ext cx="7886880" cy="51814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I- Mục 2 Chương XXI - Tội phạm trong lĩnh vực công nghệ thông tin, mạng viễn thông: 09 tội danh cụ thể:</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1. Tội sản xuất, mua bán, trao đổi hoặc tang cho công cụ, thiết bị, phần mềm để sử dung vào mục đích trái PL </a:t>
            </a:r>
            <a:r>
              <a:rPr b="1" i="1" lang="en-US" sz="2200" spc="-1" strike="noStrike">
                <a:solidFill>
                  <a:srgbClr val="000000"/>
                </a:solidFill>
                <a:latin typeface="Arial"/>
                <a:ea typeface="Arial"/>
              </a:rPr>
              <a:t>(Đ.285);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2. Tội phát tán chương trình tin học gây thiệt hại cho hoạt động của MMT, MVT, PTĐT (Đ.286);</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3. Tội cản trở hoặc gây rối loan hoạt động của MMT, MVT, PTĐT (Đ.287);</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4. Tội đưa hoặc sử dụng trái phép thông tin MMT, MVT (Đ.288);</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5. Tội xâm nhập trái phép vào MMT, MVT, PTĐT của người khác (Đ.289);</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761760" y="838080"/>
            <a:ext cx="7886520" cy="556272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6. Tội sử dụng MMT, MVT, PTĐT thực hiện hành vi chiếm đoạt TS (Đ.290);</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7. Tội thu thập, tàng trữ, trao đổi,  mua bán, công khai hóa đơn trái phép thông tin về tài  khoản ngân hàng (Đ.291);</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8. Tội sử dụng trái phép tần số vô tuyến điện dành riêng cho mục đích cấp cứu, an toàn, tìm kiến, cứu hộ, cứu nạn, quốc phòng, an ninh (Đ.293);</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9. Tội cố ý gây nhiễu có hại (Đ.294).</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0000"/>
                </a:solidFill>
                <a:latin typeface="Arial"/>
                <a:ea typeface="Arial"/>
              </a:rPr>
              <a:t>II - Tấn công, xâm hại, cản trở, gây rối loạn hoạt động của MMT, MVT, PTĐT của cơ quan, tổ chức, cá nhân là tội khủng bố</a:t>
            </a:r>
            <a:endParaRPr b="0" lang="en-US" sz="2200" spc="-1" strike="noStrike">
              <a:solidFill>
                <a:srgbClr val="000000"/>
              </a:solidFill>
              <a:latin typeface="Calibri"/>
            </a:endParaRPr>
          </a:p>
          <a:p>
            <a:pPr algn="just">
              <a:lnSpc>
                <a:spcPct val="90000"/>
              </a:lnSpc>
              <a:spcBef>
                <a:spcPts val="751"/>
              </a:spcBef>
              <a:spcAft>
                <a:spcPts val="601"/>
              </a:spcAft>
              <a:buClr>
                <a:srgbClr val="00000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Tội khủng bố nhằm chống chính quyền nhân dân (Đ.113);</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2. Tội khủng bố (Đ.299).</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ounded Rectangle 2"/>
          <p:cNvSpPr/>
          <p:nvPr/>
        </p:nvSpPr>
        <p:spPr>
          <a:xfrm>
            <a:off x="990720" y="1447920"/>
            <a:ext cx="7619760" cy="3504960"/>
          </a:xfrm>
          <a:prstGeom prst="roundRect">
            <a:avLst>
              <a:gd name="adj" fmla="val 16667"/>
            </a:avLst>
          </a:prstGeom>
          <a:solidFill>
            <a:srgbClr val="fbe5d6"/>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QUY ĐỊNH CỦA </a:t>
            </a:r>
            <a:endParaRPr b="0" lang="en-US" sz="4400" spc="-1" strike="noStrike">
              <a:solidFill>
                <a:srgbClr val="000000"/>
              </a:solidFill>
              <a:latin typeface="Tahoma"/>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HÁP LUẬT VỀ XỬ LÝ VI PHẠM HÀNH CHÍNH</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761760" y="685440"/>
            <a:ext cx="7886520" cy="5715000"/>
          </a:xfrm>
          <a:prstGeom prst="rect">
            <a:avLst/>
          </a:prstGeom>
          <a:noFill/>
          <a:ln w="0">
            <a:noFill/>
          </a:ln>
        </p:spPr>
        <p:txBody>
          <a:bodyPr anchor="t">
            <a:normAutofit fontScale="72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1. Chủ thể: cá nhâ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2. Hình phạt chính:</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hạt tiền: 20 triệu đến 01 tỷ đồng;</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hạt cải tạo không giam giữ đến 03 năm;</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hạt tù: 03 tháng đến 20 năm.</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3. Hình phạt bổ sung:</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hạt tiề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Cấm đảm nhiệm chức vụ, cấm hành nghề hoặc làm công việc nhất định đến 05 năm;</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Tịch thu một phần hoặc toàn bộ tài sả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228600"/>
            <a:ext cx="7886880" cy="838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Điểm mới so với BLHS năm 1999</a:t>
            </a:r>
            <a:endParaRPr b="0" lang="en-US" sz="3200" spc="-1" strike="noStrike">
              <a:solidFill>
                <a:srgbClr val="000000"/>
              </a:solidFill>
              <a:latin typeface="Calibri Light"/>
            </a:endParaRPr>
          </a:p>
        </p:txBody>
      </p:sp>
      <p:sp>
        <p:nvSpPr>
          <p:cNvPr id="85" name=""/>
          <p:cNvSpPr txBox="1"/>
          <p:nvPr/>
        </p:nvSpPr>
        <p:spPr>
          <a:xfrm>
            <a:off x="761760" y="1371240"/>
            <a:ext cx="7886520" cy="5181480"/>
          </a:xfrm>
          <a:prstGeom prst="rect">
            <a:avLst/>
          </a:prstGeom>
          <a:noFill/>
          <a:ln w="0">
            <a:noFill/>
          </a:ln>
        </p:spPr>
        <p:txBody>
          <a:bodyPr anchor="t">
            <a:normAutofit fontScale="73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600" spc="-1" strike="noStrike">
                <a:solidFill>
                  <a:srgbClr val="000000"/>
                </a:solidFill>
                <a:latin typeface="Arial"/>
                <a:ea typeface="Arial"/>
              </a:rPr>
              <a:t>1. Bổ sung thêm 04 tội danh mới:</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ội sản xuất, mua bán, trao đổi hoặc tặng cho công cụ, thiết bị, phần mềm để sử dụng vào mục đích trái PL (Đ.285);</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ội thu thập, tàng trữ, trao đổi, mua bán, công khai hoá đơn trái phép thông tin về tài khoản ngân hàng (Đ.291);</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ội sử dụng trái phép tần số vô tuyến điện dành riêng cho mục đích cấp cứu, an toàn, tìm kiếm, cứu hộ, cứu nạn, quốc phòng, an ninh (Đ.293);</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ội cố ý gây nhiễu có hại (Đ.294).</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228600"/>
            <a:ext cx="7886880" cy="838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Điểm mới so với BLHS năm 1999</a:t>
            </a:r>
            <a:endParaRPr b="0" lang="en-US" sz="3200" spc="-1" strike="noStrike">
              <a:solidFill>
                <a:srgbClr val="000000"/>
              </a:solidFill>
              <a:latin typeface="Calibri Light"/>
            </a:endParaRPr>
          </a:p>
        </p:txBody>
      </p:sp>
      <p:sp>
        <p:nvSpPr>
          <p:cNvPr id="87" name=""/>
          <p:cNvSpPr txBox="1"/>
          <p:nvPr/>
        </p:nvSpPr>
        <p:spPr>
          <a:xfrm>
            <a:off x="761760" y="1066680"/>
            <a:ext cx="7886520" cy="5639040"/>
          </a:xfrm>
          <a:prstGeom prst="rect">
            <a:avLst/>
          </a:prstGeom>
          <a:noFill/>
          <a:ln w="0">
            <a:noFill/>
          </a:ln>
        </p:spPr>
        <p:txBody>
          <a:bodyPr anchor="t">
            <a:normAutofit fontScale="72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600" spc="-1" strike="noStrike">
                <a:solidFill>
                  <a:srgbClr val="000000"/>
                </a:solidFill>
                <a:latin typeface="Arial"/>
                <a:ea typeface="Arial"/>
              </a:rPr>
              <a:t>2. Phi hình sự hoá một tội danh:</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Tội cung cấp dịch vụ trái phép trên mạng máy tính, mạng viễn thông (bãi bỏ khi sửa đổi năm 2017 vì đã có ở một số tội danh trong BLHS)</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600" spc="-1" strike="noStrike">
                <a:solidFill>
                  <a:srgbClr val="000000"/>
                </a:solidFill>
                <a:latin typeface="Arial"/>
                <a:ea typeface="Arial"/>
              </a:rPr>
              <a:t>3.  Cụ thể hoá các dấu hiệu định tính:</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Gây hậu quả nghiêm trọng, rất nghiêm trọng hoặc đặc biệt nghiêm trọng;</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hu lợi bất chính lớn, rất lớn, đặc biệt lớn.</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600" spc="-1" strike="noStrike">
                <a:solidFill>
                  <a:srgbClr val="000000"/>
                </a:solidFill>
                <a:latin typeface="Arial"/>
                <a:ea typeface="Arial"/>
              </a:rPr>
              <a:t> </a:t>
            </a:r>
            <a:r>
              <a:rPr b="1" i="1" lang="en-US" sz="2600" spc="-1" strike="noStrike">
                <a:solidFill>
                  <a:srgbClr val="000000"/>
                </a:solidFill>
                <a:latin typeface="Arial"/>
                <a:ea typeface="Arial"/>
              </a:rPr>
              <a:t>4. Điều chỉnh hình phạt:</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ăng mức phạt tiền;</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Quy định hình phạt tiền là hình phạt chính tại khoản định khung tăng nặng.</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228240"/>
            <a:ext cx="7886880" cy="1523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r>
              <a:rPr b="1" lang="en-US" sz="2600" spc="-1" strike="noStrike">
                <a:solidFill>
                  <a:srgbClr val="000000"/>
                </a:solidFill>
                <a:latin typeface="Arial"/>
                <a:ea typeface="Arial"/>
              </a:rPr>
              <a:t>Tội phát tán chương trình tin học gây thiệt hại cho hoạt động của MMT, MVT, PTĐT - Đ.286</a:t>
            </a:r>
            <a:br>
              <a:rPr sz="4000"/>
            </a:br>
            <a:endParaRPr b="0" lang="en-US" sz="2600" spc="-1" strike="noStrike">
              <a:solidFill>
                <a:srgbClr val="000000"/>
              </a:solidFill>
              <a:latin typeface="Calibri Light"/>
            </a:endParaRPr>
          </a:p>
        </p:txBody>
      </p:sp>
      <p:sp>
        <p:nvSpPr>
          <p:cNvPr id="89" name=""/>
          <p:cNvSpPr txBox="1"/>
          <p:nvPr/>
        </p:nvSpPr>
        <p:spPr>
          <a:xfrm>
            <a:off x="761760" y="1980720"/>
            <a:ext cx="7886520" cy="3886200"/>
          </a:xfrm>
          <a:prstGeom prst="rect">
            <a:avLst/>
          </a:prstGeom>
          <a:noFill/>
          <a:ln w="0">
            <a:noFill/>
          </a:ln>
        </p:spPr>
        <p:txBody>
          <a:bodyPr anchor="t">
            <a:normAutofit fontScale="87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1. Thu lợi bất chính hoặc gây thiệt hại từ 50 triệu đồng trở lê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2. Làm lây nhiễm từ 50 phương tiện điện tử trở lên hoặc hệ thống thông tin có từ 50 người sử dụng trở lê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3.  Đã bị XPVPHC về hành vi này hoặc đã bị kết án về tội này, chưa được XAT mà còn vi phạm.</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228600"/>
            <a:ext cx="7886880" cy="12952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Tội cản trở hoặc gây rối loạn hoạt động của MMT, MVT, PTĐT - Đ.287</a:t>
            </a:r>
            <a:endParaRPr b="0" lang="en-US" sz="2800" spc="-1" strike="noStrike">
              <a:solidFill>
                <a:srgbClr val="000000"/>
              </a:solidFill>
              <a:latin typeface="Calibri Light"/>
            </a:endParaRPr>
          </a:p>
        </p:txBody>
      </p:sp>
      <p:sp>
        <p:nvSpPr>
          <p:cNvPr id="91" name=""/>
          <p:cNvSpPr txBox="1"/>
          <p:nvPr/>
        </p:nvSpPr>
        <p:spPr>
          <a:xfrm>
            <a:off x="761760" y="1523880"/>
            <a:ext cx="7886520" cy="5105520"/>
          </a:xfrm>
          <a:prstGeom prst="rect">
            <a:avLst/>
          </a:prstGeom>
          <a:noFill/>
          <a:ln w="0">
            <a:noFill/>
          </a:ln>
        </p:spPr>
        <p:txBody>
          <a:bodyPr anchor="t">
            <a:normAutofit fontScale="84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Tự ý xoá, làm tổn hại hoặc thay đổi phần mềm, dữ liệu điện tử hoặc ngăn chặn trái phép việc truyền tải dữ liệu của MMT, MVT, PTĐT hoặc có hành vi khác cản trở hoặc gây rối loan hoạt động của MMT, MVT, PTĐT thuộc một trong các trường hợp:</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1. Thu lợi bất chính từ 50 triệu đồng trở lê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Gây thiệt hại từ 100 triệu đồng trở lê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Làm tê liệt, gián đoạn, ngưng trệ hoạt động của MMT, MVT, PTĐT từ 30 phút trở lên hoặc 3 lần/24 giờ.</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Làm đình trệ hoạt động của CQ, TCtừ 24 giờ trở lê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4. Đã bị XPVPHC về hành vi này hoặc đã bị kết án về tội này, chưa được XAT mà còn vi phạm.</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75960"/>
            <a:ext cx="788688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Tội đưa hoặc sử dụng trái phép </a:t>
            </a:r>
            <a:br>
              <a:rPr sz="3200"/>
            </a:br>
            <a:r>
              <a:rPr b="1" lang="en-US" sz="3200" spc="-1" strike="noStrike">
                <a:solidFill>
                  <a:srgbClr val="000000"/>
                </a:solidFill>
                <a:latin typeface="Arial"/>
                <a:ea typeface="Arial"/>
              </a:rPr>
              <a:t>thông tin MMT, MVT - Đ.288</a:t>
            </a:r>
            <a:endParaRPr b="0" lang="en-US" sz="3200" spc="-1" strike="noStrike">
              <a:solidFill>
                <a:srgbClr val="000000"/>
              </a:solidFill>
              <a:latin typeface="Calibri Light"/>
            </a:endParaRPr>
          </a:p>
        </p:txBody>
      </p:sp>
      <p:sp>
        <p:nvSpPr>
          <p:cNvPr id="93" name=""/>
          <p:cNvSpPr txBox="1"/>
          <p:nvPr/>
        </p:nvSpPr>
        <p:spPr>
          <a:xfrm>
            <a:off x="761760" y="1523520"/>
            <a:ext cx="7870680" cy="4953240"/>
          </a:xfrm>
          <a:prstGeom prst="rect">
            <a:avLst/>
          </a:prstGeom>
          <a:noFill/>
          <a:ln w="0">
            <a:noFill/>
          </a:ln>
        </p:spPr>
        <p:txBody>
          <a:bodyPr anchor="t">
            <a:normAutofit fontScale="84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Thực hiện một trong những hành vi sau mà (i) thu lợi bất chính từ 50 tr đồng trở lên; (ii) gây thiệt hại từ 100 tr đồng trở lên hoặc (iii) gây dự luận xấu làm giảm uy tín của CQ, TC, cá nhân:</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1. Đưa lên MMT, MVT những thông tin trái quy định của PL; </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2. Mua bán, trao đổi, tặng cho, sửa chữa, thay đổi hoặc công khai hóa thông tin riêng hợp pháp của CQ, TC, cá nhân trên MMT, MVT mà không được phép của chủ sở hữu thông tin; </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3. Hành vi khác sử dụng trái phép thông tin trên MMT, MVT.</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228600"/>
            <a:ext cx="7886880" cy="12952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Tội xâm nhập trái phép vào MMT, MVT hoặc PTĐT của người khác- Đ.289</a:t>
            </a:r>
            <a:endParaRPr b="0" lang="en-US" sz="3200" spc="-1" strike="noStrike">
              <a:solidFill>
                <a:srgbClr val="000000"/>
              </a:solidFill>
              <a:latin typeface="Calibri Light"/>
            </a:endParaRPr>
          </a:p>
        </p:txBody>
      </p:sp>
      <p:sp>
        <p:nvSpPr>
          <p:cNvPr id="95" name=""/>
          <p:cNvSpPr txBox="1"/>
          <p:nvPr/>
        </p:nvSpPr>
        <p:spPr>
          <a:xfrm>
            <a:off x="761760" y="1752480"/>
            <a:ext cx="7886520" cy="4648320"/>
          </a:xfrm>
          <a:prstGeom prst="rect">
            <a:avLst/>
          </a:prstGeom>
          <a:noFill/>
          <a:ln w="0">
            <a:noFill/>
          </a:ln>
        </p:spPr>
        <p:txBody>
          <a:bodyPr anchor="t">
            <a:normAutofit fontScale="91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Cố ý vượt qua cảnh báo, mã truy cập, tường lửa, sử dụng quyền quản trị của người khác hoặc bằng phương thức khác xâm nhập trái phép vào MMT, MVT, PTĐT của người khác:</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1. Chiếm quyền điều khiển; </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2. Can thiệp vào chức năng hoạt động của PTĐT; </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3. Lấy cắp, thay đổi, huỷ hoại, làm giả dữ liệu hoặc sử dụng trái phép các dịch vụ.</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22860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Tội sử dụng MMT, MVT, PTĐT </a:t>
            </a:r>
            <a:br>
              <a:rPr sz="2800"/>
            </a:br>
            <a:r>
              <a:rPr b="1" lang="en-US" sz="2800" spc="-1" strike="noStrike">
                <a:solidFill>
                  <a:srgbClr val="000000"/>
                </a:solidFill>
                <a:latin typeface="Arial"/>
                <a:ea typeface="Arial"/>
              </a:rPr>
              <a:t>thực hiện hành vi chiếm đoạt TS - Đ.290</a:t>
            </a:r>
            <a:endParaRPr b="0" lang="en-US" sz="2800" spc="-1" strike="noStrike">
              <a:solidFill>
                <a:srgbClr val="000000"/>
              </a:solidFill>
              <a:latin typeface="Calibri Light"/>
            </a:endParaRPr>
          </a:p>
        </p:txBody>
      </p:sp>
      <p:sp>
        <p:nvSpPr>
          <p:cNvPr id="97" name=""/>
          <p:cNvSpPr txBox="1"/>
          <p:nvPr/>
        </p:nvSpPr>
        <p:spPr>
          <a:xfrm>
            <a:off x="914400" y="1600200"/>
            <a:ext cx="7734240" cy="5029200"/>
          </a:xfrm>
          <a:prstGeom prst="rect">
            <a:avLst/>
          </a:prstGeom>
          <a:noFill/>
          <a:ln w="0">
            <a:noFill/>
          </a:ln>
        </p:spPr>
        <p:txBody>
          <a:bodyPr anchor="t">
            <a:normAutofit fontScale="80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Sử dụng MMT, MVT, PTĐT để</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1. Sử dụng thông tin về tài khoản, thẻ NH của CQ, TC, cá nhân để chiếm đoạt TS;</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Làm, tàng trữ, mua bán, sử dụng, lưu hành thẻ NH nhằm chiếm đoạt TS;</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Truy cập bất hợp pháp vào tài khoản của CQ, TC, cá nhân nhằm chiếm đoạt TS;</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4. Lừa đảo trong TMĐT, thanh toán ĐT, KD tiền tệ, huy động vốn, KD đa cấp hoặc giao dịch chứng khoán qua mạng nhằm chiếm đoạt TS;</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5. Thiết lập, cung cấp trái phép  dịch vụ viễn thông, internet nhằm chiếm đoạt TS.</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28240"/>
            <a:ext cx="7886880" cy="1523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Tội thu thập, tàng trữ, trao đổi, mua bán, công khai hoá trái phép thông tin về tài khoản NH - Đ.291</a:t>
            </a:r>
            <a:endParaRPr b="0" lang="en-US" sz="3200" spc="-1" strike="noStrike">
              <a:solidFill>
                <a:srgbClr val="000000"/>
              </a:solidFill>
              <a:latin typeface="Calibri Light"/>
            </a:endParaRPr>
          </a:p>
        </p:txBody>
      </p:sp>
      <p:sp>
        <p:nvSpPr>
          <p:cNvPr id="99" name=""/>
          <p:cNvSpPr txBox="1"/>
          <p:nvPr/>
        </p:nvSpPr>
        <p:spPr>
          <a:xfrm>
            <a:off x="1066320" y="2133720"/>
            <a:ext cx="7448760" cy="3962160"/>
          </a:xfrm>
          <a:prstGeom prst="rect">
            <a:avLst/>
          </a:prstGeom>
          <a:noFill/>
          <a:ln w="0">
            <a:noFill/>
          </a:ln>
        </p:spPr>
        <p:txBody>
          <a:bodyPr anchor="t">
            <a:normAutofit fontScale="96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Thu thập, tàng trữ, trao đổi, mua bán, công khai hoá trái phép thông tin về tài khoản NH thuộc một trong các trường hợp:</a:t>
            </a:r>
            <a:endParaRPr b="0" lang="en-US" sz="3200" spc="-1" strike="noStrike">
              <a:solidFill>
                <a:srgbClr val="000000"/>
              </a:solidFill>
              <a:latin typeface="Calibri"/>
            </a:endParaRPr>
          </a:p>
          <a:p>
            <a:pPr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Số lượng từ 20 tài khoản NH trở lên;</a:t>
            </a:r>
            <a:endParaRPr b="0" lang="en-US" sz="3200" spc="-1" strike="noStrike">
              <a:solidFill>
                <a:srgbClr val="000000"/>
              </a:solidFill>
              <a:latin typeface="Calibri"/>
            </a:endParaRPr>
          </a:p>
          <a:p>
            <a:pPr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Thu lợi bất chính từ 20 triệu đồng trở lên;</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TRÂN TRỌNG CẢM Ơ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761760" y="838080"/>
            <a:ext cx="7848360" cy="5181840"/>
          </a:xfrm>
          <a:prstGeom prst="rect">
            <a:avLst/>
          </a:prstGeom>
          <a:noFill/>
          <a:ln w="0">
            <a:noFill/>
          </a:ln>
        </p:spPr>
        <p:txBody>
          <a:bodyPr anchor="t">
            <a:normAutofit/>
          </a:bodyPr>
          <a:p>
            <a:pPr marL="457200" indent="-457200" algn="just">
              <a:lnSpc>
                <a:spcPct val="90000"/>
              </a:lnSpc>
              <a:spcBef>
                <a:spcPts val="751"/>
              </a:spcBef>
              <a:spcAft>
                <a:spcPts val="601"/>
              </a:spcAft>
              <a:buClr>
                <a:srgbClr val="00000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Nghị định số 15/2020/NĐ-CP ngày 03/02/2020 quy định xử phạt VPHC trong lĩnh vực bưu chính, viễn thông, tần số, vô tuyến điện, cộng nghệ thông tin và giao dịch điện tử;</a:t>
            </a:r>
            <a:endParaRPr b="0" lang="en-US" sz="3600" spc="-1" strike="noStrike">
              <a:solidFill>
                <a:srgbClr val="000000"/>
              </a:solidFill>
              <a:latin typeface="Calibri"/>
            </a:endParaRPr>
          </a:p>
          <a:p>
            <a:pPr marL="457200" indent="-457200" algn="just">
              <a:lnSpc>
                <a:spcPct val="90000"/>
              </a:lnSpc>
              <a:spcBef>
                <a:spcPts val="751"/>
              </a:spcBef>
              <a:spcAft>
                <a:spcPts val="601"/>
              </a:spcAft>
              <a:buClr>
                <a:srgbClr val="00000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Nghị định số 14/2022/NĐ-CP ngày 27/01/2022 sửa đổi, bổ sung một số điều của NĐ số 15/2020/NĐ-CP</a:t>
            </a:r>
            <a:r>
              <a:rPr b="0" lang="en-U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61760" y="380520"/>
            <a:ext cx="7924680" cy="617220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000000"/>
                </a:solidFill>
                <a:latin typeface="Arial"/>
                <a:ea typeface="Arial"/>
              </a:rPr>
              <a:t>1. Đối tượng xử phạt: </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Cá nhân, tổ chức V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Cá nhân, tổ chức nước ngoài.</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000000"/>
                </a:solidFill>
                <a:latin typeface="Arial"/>
                <a:ea typeface="Arial"/>
              </a:rPr>
              <a:t>2. Hình thức xử phạt:</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Hình thức xử phạt chính: phạt tiề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Hình thức xử phạt bổ sung: </a:t>
            </a:r>
            <a:r>
              <a:rPr b="0" i="1" lang="en-US" sz="2400" spc="-1" strike="noStrike">
                <a:solidFill>
                  <a:srgbClr val="000000"/>
                </a:solidFill>
                <a:latin typeface="Arial"/>
                <a:ea typeface="Arial"/>
              </a:rPr>
              <a:t>(1) t</a:t>
            </a:r>
            <a:r>
              <a:rPr b="0" i="1" lang="vi-VN" sz="2400" spc="-1" strike="noStrike">
                <a:solidFill>
                  <a:srgbClr val="000000"/>
                </a:solidFill>
                <a:latin typeface="Arial"/>
              </a:rPr>
              <a:t>ước quyền sử dụng giấy phép có thời hạn từ 01 tháng đến 24 tháng; (2) Tịch thu tang vật, phương tiện vi phạm hành chính; (3) Đình chỉ hoạt động có thời hạn từ 01 tháng đến 24 tháng; (4) trục xuất</a:t>
            </a:r>
            <a:r>
              <a:rPr b="0" lang="vi-VN" sz="2400" spc="-1" strike="noStrike">
                <a:solidFill>
                  <a:srgbClr val="000000"/>
                </a:solidFill>
                <a:latin typeface="Arial"/>
              </a:rPr>
              <a:t>.</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vi-VN" sz="2400" spc="-1" strike="noStrike">
                <a:solidFill>
                  <a:srgbClr val="000000"/>
                </a:solidFill>
                <a:latin typeface="Arial"/>
                <a:ea typeface="Arial"/>
              </a:rPr>
              <a:t>3. Mức xử phạt tối đa:</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Cá nhân: 100 triệu đồng trong lĩnh vực CNTT, an toàn thông tin mạng;</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Tổ chức: gấp 02 lần mức phạt với cá nhâ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761760" y="380520"/>
            <a:ext cx="7924680" cy="617220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800" spc="-1" strike="noStrike">
                <a:solidFill>
                  <a:srgbClr val="000000"/>
                </a:solidFill>
                <a:latin typeface="Arial"/>
                <a:ea typeface="Arial"/>
              </a:rPr>
              <a:t>4. Thời hiệu xử phạt VPHC: </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800" spc="-1" strike="noStrike">
                <a:solidFill>
                  <a:srgbClr val="000000"/>
                </a:solidFill>
                <a:latin typeface="Arial"/>
                <a:ea typeface="Arial"/>
              </a:rPr>
              <a:t>  </a:t>
            </a:r>
            <a:r>
              <a:rPr b="1" i="1" lang="en-US" sz="2800" spc="-1" strike="noStrike">
                <a:solidFill>
                  <a:srgbClr val="000000"/>
                </a:solidFill>
                <a:latin typeface="Arial"/>
                <a:ea typeface="Arial"/>
              </a:rPr>
              <a:t>- </a:t>
            </a:r>
            <a:r>
              <a:rPr b="0" lang="en-US" sz="2800" spc="-1" strike="noStrike">
                <a:solidFill>
                  <a:srgbClr val="000000"/>
                </a:solidFill>
                <a:latin typeface="Arial"/>
                <a:ea typeface="Arial"/>
              </a:rPr>
              <a:t>01 năm kể từ thời điểm chấm dứt hành vi VP hoặc từ thời điểm phát hiện hành vi VP;</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Xác định hành vi VPHC kết thúc:</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vi-VN" sz="2800" spc="-1" strike="noStrike">
                <a:solidFill>
                  <a:srgbClr val="000000"/>
                </a:solidFill>
                <a:latin typeface="Arial"/>
              </a:rPr>
              <a:t> </a:t>
            </a:r>
            <a:r>
              <a:rPr b="0" lang="vi-VN" sz="2800" spc="-1" strike="noStrike">
                <a:solidFill>
                  <a:srgbClr val="000000"/>
                </a:solidFill>
                <a:latin typeface="Arial"/>
              </a:rPr>
              <a:t>	</a:t>
            </a:r>
            <a:r>
              <a:rPr b="0" lang="vi-VN" sz="2800" spc="-1" strike="noStrike">
                <a:solidFill>
                  <a:srgbClr val="000000"/>
                </a:solidFill>
                <a:latin typeface="Arial"/>
              </a:rPr>
              <a:t>+ Hành vi VPHC đã kết thúc là hành vi được thực hiện một lần hoặc nhiều lần và có căn cứ xác định hành vi đã thực hiện xong trước thời điểm cơ quan, người có thẩm quyền phát hiện vi phạm hành chính</a:t>
            </a:r>
            <a:r>
              <a:rPr b="0" lang="en-US" sz="2800" spc="-1" strike="noStrike">
                <a:solidFill>
                  <a:srgbClr val="000000"/>
                </a:solidFill>
                <a:latin typeface="Arial"/>
                <a:ea typeface="Arial"/>
              </a:rPr>
              <a:t>;</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vi-VN" sz="2800" spc="-1" strike="noStrike">
                <a:solidFill>
                  <a:srgbClr val="000000"/>
                </a:solidFill>
                <a:latin typeface="Arial"/>
              </a:rPr>
              <a:t>	</a:t>
            </a:r>
            <a:r>
              <a:rPr b="0" lang="vi-VN" sz="2800" spc="-1" strike="noStrike">
                <a:solidFill>
                  <a:srgbClr val="000000"/>
                </a:solidFill>
                <a:latin typeface="Arial"/>
              </a:rPr>
              <a:t>+ Hành vi VPHC đang thực hiện là hành vi đang diễn ra tại thời điểm cơ quan, người có thẩm quyền phát hiện vi phạm hành chính và hành vi đó vẫn đang xâm hại trật tự quản lý nhà nướ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15228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Vi phạm quy định về cung cấp, sử dụng trái phép thông tin trên mạng</a:t>
            </a:r>
            <a:endParaRPr b="0" lang="en-US" sz="2800" spc="-1" strike="noStrike">
              <a:solidFill>
                <a:srgbClr val="000000"/>
              </a:solidFill>
              <a:latin typeface="Calibri Light"/>
            </a:endParaRPr>
          </a:p>
        </p:txBody>
      </p:sp>
      <p:sp>
        <p:nvSpPr>
          <p:cNvPr id="55" name=""/>
          <p:cNvSpPr txBox="1"/>
          <p:nvPr/>
        </p:nvSpPr>
        <p:spPr>
          <a:xfrm>
            <a:off x="628560" y="1219320"/>
            <a:ext cx="8134560" cy="54100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1. Phạt tiền từ 10 tr đến 20 tr đồng: Bẻ khóa, trộm cắp, sử dụng mật khẩu, khóa mật mã và thông tin của tổ chức, cá nhân khác trên môi trường mạng:;</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2. Phạt tiền từ 30 tr đến 50 tr đồng:</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Truy cập trái phép vào mạng hoặc theiets bị số của người khác để chiếm quyền điều khiểu thiết bị số hoặ thay đổi, xóa bỏ thông tin lưu trx trên thiết bị số hoặc thay đổi tham số cài đặt thiết bị hoặc thu thập thông tin của người khác;</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Xâm nhập, sửa đổi, xóa bỏ nội dung thông tin của tổ chức, cá nhân khác trên môi trường mạng;</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Cản trở hoạt động cung cấp dịch vụ của hệ thống thông tin;</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Ngăn chặn việc truy nhập đến thông tin của tổ chức, cá nhân khác trên môi trường mạng;</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Làm mất an toàn, bí mật thông tin của tổ chức, cá nhân khác được trao đổi, truyền đưa, lưu trữ trên môi trường mạ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15228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Vi phạm quy định về sử dụng mạng </a:t>
            </a:r>
            <a:br>
              <a:rPr sz="2800"/>
            </a:br>
            <a:r>
              <a:rPr b="1" lang="en-US" sz="2800" spc="-1" strike="noStrike">
                <a:solidFill>
                  <a:srgbClr val="000000"/>
                </a:solidFill>
                <a:latin typeface="Arial"/>
                <a:ea typeface="Arial"/>
              </a:rPr>
              <a:t>nhằm chiếm đoạt tài sản</a:t>
            </a:r>
            <a:endParaRPr b="0" lang="en-US" sz="2800" spc="-1" strike="noStrike">
              <a:solidFill>
                <a:srgbClr val="000000"/>
              </a:solidFill>
              <a:latin typeface="Calibri Light"/>
            </a:endParaRPr>
          </a:p>
        </p:txBody>
      </p:sp>
      <p:sp>
        <p:nvSpPr>
          <p:cNvPr id="57" name=""/>
          <p:cNvSpPr txBox="1"/>
          <p:nvPr/>
        </p:nvSpPr>
        <p:spPr>
          <a:xfrm>
            <a:off x="838080" y="1371600"/>
            <a:ext cx="7848720" cy="49528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1. Phạt tiền từ 30 tr đến 50 tr: lợi dụng các phương tiện giao tiếp trực tuyến trên mạng Internet, mạng viễn thông nhằm chiếm đoạt TS của tổ chức, cá nhân có trị giá dưới 02 tr đồng;</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2. Phạt tiền từ 70 tr đến 100 tr đồng:</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Truy cập bất hợp pháp vào tài khoản của tổ̉ chức, cá nhân nhằm chiếm đoạt TS có trị giá dưới 02 tr đồng;</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Thiết lập hệ thống, cung cấp dịch vụ chuyển cuộc gọi quốc tế thành cuộc gọi trong nước phục vụ mục đích lừa đảo, chiếm đoạt TS trị giá dưới 02 tr đồng;</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Trộm cắp hoặc sử dụng trái phép thông tin về tài khoản, thẻ ngân hàng của tổ chức, cá nhân để chiếm đoạt TS hoặc để thanh toán  hàng hóa, dịch vụ có trị giá dưới 02 tr đồ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151920"/>
            <a:ext cx="788688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Vi phạm quy định về thu thập, </a:t>
            </a:r>
            <a:br>
              <a:rPr sz="2800"/>
            </a:br>
            <a:r>
              <a:rPr b="1" lang="en-US" sz="2800" spc="-1" strike="noStrike">
                <a:solidFill>
                  <a:srgbClr val="000000"/>
                </a:solidFill>
                <a:latin typeface="Arial"/>
                <a:ea typeface="Arial"/>
              </a:rPr>
              <a:t>sử dụng thông tin cá nhân</a:t>
            </a:r>
            <a:endParaRPr b="0" lang="en-US" sz="2800" spc="-1" strike="noStrike">
              <a:solidFill>
                <a:srgbClr val="000000"/>
              </a:solidFill>
              <a:latin typeface="Calibri Light"/>
            </a:endParaRPr>
          </a:p>
        </p:txBody>
      </p:sp>
      <p:sp>
        <p:nvSpPr>
          <p:cNvPr id="59" name=""/>
          <p:cNvSpPr txBox="1"/>
          <p:nvPr/>
        </p:nvSpPr>
        <p:spPr>
          <a:xfrm>
            <a:off x="628560" y="1447560"/>
            <a:ext cx="8058240" cy="5105160"/>
          </a:xfrm>
          <a:prstGeom prst="rect">
            <a:avLst/>
          </a:prstGeom>
          <a:noFill/>
          <a:ln w="0">
            <a:noFill/>
          </a:ln>
        </p:spPr>
        <p:txBody>
          <a:bodyPr anchor="t">
            <a:normAutofit fontScale="98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1. Phạt tiền từ 10 tr đến 20 tr đồng: </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Thu thập thông tin cá nhân khi chưa có sự đồng ý của chủ thể thông tin cá nhân về pham vi, mục đích của việc thu thập và sử dụng thông tin đó;</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Cung cấp thông tin cá nhân cho bên thứ ba khi chủ thể thông tin cá nhân đã yêu cầu ngừng cung cấp.</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2. Phạt tiền từ 40 tr đến 60 tr đồng:</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Sử dụng không đúng mục đích thông tin cá nhân đã thỏa thuận khi thu thập hoặc khi chưa có sự đồng ý của chủ thể thông tin cá nhân;</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Cung cấp hoặc chia sẻ hoặc phát tán thông tin cá nhân đã thu thập, tiếp cận, kiểm soát cho bên thứ ba khi chưa có sự đồng ý của chủ thông tin cá nhân;</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Thu thập, sử dụng, phát tán, kinh doanh trái PL thông tin cá nhân của người khá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151920"/>
            <a:ext cx="788688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Vi phạm quy định về trách nhiệm sử dụng </a:t>
            </a:r>
            <a:br>
              <a:rPr sz="2400"/>
            </a:br>
            <a:r>
              <a:rPr b="1" lang="en-US" sz="2400" spc="-1" strike="noStrike">
                <a:solidFill>
                  <a:srgbClr val="000000"/>
                </a:solidFill>
                <a:latin typeface="Arial"/>
                <a:ea typeface="Arial"/>
              </a:rPr>
              <a:t>dịch vụ mạng XH; trang TTĐT được </a:t>
            </a:r>
            <a:br>
              <a:rPr sz="2400"/>
            </a:br>
            <a:r>
              <a:rPr b="1" lang="en-US" sz="2400" spc="-1" strike="noStrike">
                <a:solidFill>
                  <a:srgbClr val="000000"/>
                </a:solidFill>
                <a:latin typeface="Arial"/>
                <a:ea typeface="Arial"/>
              </a:rPr>
              <a:t>thiết lập thông qua mạng XH</a:t>
            </a:r>
            <a:endParaRPr b="0" lang="en-US" sz="2400" spc="-1" strike="noStrike">
              <a:solidFill>
                <a:srgbClr val="000000"/>
              </a:solidFill>
              <a:latin typeface="Calibri Light"/>
            </a:endParaRPr>
          </a:p>
        </p:txBody>
      </p:sp>
      <p:sp>
        <p:nvSpPr>
          <p:cNvPr id="61" name=""/>
          <p:cNvSpPr txBox="1"/>
          <p:nvPr/>
        </p:nvSpPr>
        <p:spPr>
          <a:xfrm>
            <a:off x="628200" y="1371240"/>
            <a:ext cx="8210520" cy="533412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1. Phạt tiền từ 10 tr đến 20 tr đối với hành vi lợi dụng mạng XH để thực hiện một trong các hành vi: </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 Cung cấp, chia sẻ TT giả mạo, sai sự thật, xuyên tạc, vu khống, xúc phạm uy tín của cơ quan, tổ chức, danh dự, nhân phẩm của cá nhân;</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 Cung cấp, chia sẻ TT cổ súy các hủ tục, mê tín, dị đoan, dâm ô, đồi trụy, không phù hợp với thuần phong, mỹ tục của dân tộc;</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 Cung cấp, chia sẻ TT miêu tả tỉ mỉ hành động chém, giết, tai nạn, kinh dị, rùng rợn;</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 Cung cấp, chia sẻ TT bịa đặt, gây hoang mang trong ND, kích động bạo lực, tội ác, tệ nạn XH, đánh bạc hoặc phục vụ đánh bạc;</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Quảng cáo, tuyên truyền, chia sẻ TT về hàng hóa, dịch vụ bị cấm;</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 Cung cấp, chia sẻ hình ảnh bản đồ VN nhưng không thể hiện hoặc thể hiện không đúng chủ quyền QG.</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2. Phạt tiền từ 20 tr đến 30 tr về hành vi tiết lộ TT thuộc DM bí mật NN, bí mật đời tư của cá nhân và bí mật khác mà chưa đến mức TNTNH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22:55:01Z</dcterms:created>
  <dc:creator>PC Thien IT</dc:creator>
  <dc:description/>
  <dc:language>en-US</dc:language>
  <cp:lastModifiedBy>VanAnh</cp:lastModifiedBy>
  <cp:lastPrinted>2023-05-22T08:44:30Z</cp:lastPrinted>
  <dcterms:modified xsi:type="dcterms:W3CDTF">2023-05-22T09:02:34Z</dcterms:modified>
  <cp:revision>289</cp:revision>
  <dc:subject/>
  <dc:title>Vấn đề lồng ghép giới trong Bộ luật hình sự Việt Nam</dc:title>
</cp:coreProperties>
</file>