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360" y="0"/>
            <a:ext cx="2919240" cy="4953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3814560" y="0"/>
            <a:ext cx="2919240" cy="495360"/>
          </a:xfrm>
          <a:prstGeom prst="rect">
            <a:avLst/>
          </a:prstGeom>
          <a:noFill/>
          <a:ln w="0">
            <a:noFill/>
          </a:ln>
        </p:spPr>
        <p:txBody>
          <a:bodyPr lIns="90720" rIns="90720" tIns="45360" bIns="453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7680" y="1233360"/>
            <a:ext cx="4440240" cy="3330720"/>
          </a:xfrm>
          <a:prstGeom prst="rect">
            <a:avLst/>
          </a:prstGeom>
          <a:noFill/>
          <a:ln w="12600">
            <a:solidFill>
              <a:srgbClr val="000000"/>
            </a:solidFill>
            <a:miter/>
          </a:ln>
        </p:spPr>
        <p:txBody>
          <a:bodyPr lIns="90720" rIns="90720" tIns="45360" bIns="4536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72840" y="4747680"/>
            <a:ext cx="5389560" cy="3884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500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3814560" y="9370800"/>
            <a:ext cx="2919240" cy="495000"/>
          </a:xfrm>
          <a:prstGeom prst="rect">
            <a:avLst/>
          </a:prstGeom>
          <a:noFill/>
          <a:ln w="0">
            <a:noFill/>
          </a:ln>
        </p:spPr>
        <p:txBody>
          <a:bodyPr lIns="90720" rIns="90720" tIns="45360" bIns="45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A9BEB-5DFF-45B6-81EB-FB6C5F14303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7680" y="1233360"/>
            <a:ext cx="4440240" cy="3330720"/>
          </a:xfrm>
          <a:prstGeom prst="rect">
            <a:avLst/>
          </a:prstGeom>
          <a:ln w="0">
            <a:noFill/>
          </a:ln>
        </p:spPr>
      </p:sp>
      <p:sp>
        <p:nvSpPr>
          <p:cNvPr id="99" name="PlaceHolder 2"/>
          <p:cNvSpPr>
            <a:spLocks noGrp="1"/>
          </p:cNvSpPr>
          <p:nvPr>
            <p:ph type="body"/>
          </p:nvPr>
        </p:nvSpPr>
        <p:spPr>
          <a:xfrm>
            <a:off x="672840" y="4747680"/>
            <a:ext cx="5389560" cy="388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14920" y="9371160"/>
            <a:ext cx="2919240" cy="4950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9AED4-128C-4CD8-8C2C-8D802229F2F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0D7F6-1019-4268-A414-1A830283A5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2DC18-BC37-41DD-8F7A-6328F49F0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6C63A-5A9C-4639-AE7F-0995C371A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FBD48-E429-414D-BCEC-B72DEF4FF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99A22-8B8D-4928-A616-67BE12204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89754-1875-44EC-9260-0184150A5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A99D5-D75B-46AD-BF50-181842290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136ED-4363-4D51-A957-0B56F2A58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BDBC8-8299-4B65-930F-5750FE975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83592-2C0E-4D99-8C73-AE05D98FE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32C50-A604-45D4-B0ED-87F5D4669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5F23E-9B7D-4569-9B8A-5D8D22532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2B499-59BC-4245-9CD1-A4FED71BCAE5}" type="slidenum">
              <a:rPr b="0" lang="en-US" sz="900" spc="-1" strike="noStrike">
                <a:solidFill>
                  <a:srgbClr val="898989"/>
                </a:solidFill>
                <a:latin typeface="Tahoma"/>
              </a:rPr>
              <a:t>&lt;number&gt;</a:t>
            </a:fld>
            <a:endParaRPr b="0" lang="en-US" sz="9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837720"/>
            <a:ext cx="7924680" cy="251460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Times New Roman"/>
                <a:ea typeface="Times New Roman"/>
              </a:rPr>
              <a:t>MỘT SỐ NỘI DUNG CƠ BẢN CỦA</a:t>
            </a:r>
            <a:br>
              <a:rPr sz="2800"/>
            </a:br>
            <a:r>
              <a:rPr b="1" lang="en-US" sz="2800" spc="-1" strike="noStrike">
                <a:solidFill>
                  <a:srgbClr val="000000"/>
                </a:solidFill>
                <a:latin typeface="Times New Roman"/>
                <a:ea typeface="Times New Roman"/>
              </a:rPr>
              <a:t> LUẬT TIẾP CẬN THÔNG TIN VÀ </a:t>
            </a:r>
            <a:br>
              <a:rPr sz="2800"/>
            </a:br>
            <a:r>
              <a:rPr b="1" lang="en-US" sz="2800" spc="-1" strike="noStrike">
                <a:solidFill>
                  <a:srgbClr val="000000"/>
                </a:solidFill>
                <a:latin typeface="Times New Roman"/>
                <a:ea typeface="Times New Roman"/>
              </a:rPr>
              <a:t>LUẬT AN NINH MẠNG</a:t>
            </a:r>
            <a:endParaRPr b="0" lang="en-US" sz="2800" spc="-1" strike="noStrike">
              <a:solidFill>
                <a:srgbClr val="000000"/>
              </a:solidFill>
              <a:latin typeface="Calibri Light"/>
            </a:endParaRPr>
          </a:p>
        </p:txBody>
      </p:sp>
      <p:sp>
        <p:nvSpPr>
          <p:cNvPr id="49" name="PlaceHolder 2"/>
          <p:cNvSpPr>
            <a:spLocks noGrp="1"/>
          </p:cNvSpPr>
          <p:nvPr>
            <p:ph type="subTitle"/>
          </p:nvPr>
        </p:nvSpPr>
        <p:spPr>
          <a:xfrm>
            <a:off x="2514240" y="4419720"/>
            <a:ext cx="5791320" cy="1371600"/>
          </a:xfrm>
          <a:prstGeom prst="rect">
            <a:avLst/>
          </a:prstGeom>
          <a:noFill/>
          <a:ln w="0">
            <a:noFill/>
          </a:ln>
        </p:spPr>
        <p:txBody>
          <a:bodyPr anchor="t">
            <a:noAutofit/>
          </a:bodyPr>
          <a:p>
            <a:pPr indent="0" algn="just">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TS. Lê Thị Vân Anh</a:t>
            </a:r>
            <a:endParaRPr b="0" lang="en-US" sz="2000" spc="-1" strike="noStrike">
              <a:solidFill>
                <a:srgbClr val="000000"/>
              </a:solidFill>
              <a:latin typeface="Calibri"/>
            </a:endParaRPr>
          </a:p>
          <a:p>
            <a:pPr indent="0" algn="just">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Phó Vụ trưởng, Vụ PL Hình sự - Hành chính,                                                    </a:t>
            </a:r>
            <a:endParaRPr b="0" lang="en-US" sz="2000" spc="-1" strike="noStrike">
              <a:solidFill>
                <a:srgbClr val="000000"/>
              </a:solidFill>
              <a:latin typeface="Calibri"/>
            </a:endParaRPr>
          </a:p>
          <a:p>
            <a:pPr indent="0" algn="just">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Bộ Tư phá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04920"/>
            <a:ext cx="7886880" cy="7617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Arial"/>
                <a:ea typeface="Arial"/>
              </a:rPr>
              <a:t>Thông tin không được tiếp cận</a:t>
            </a:r>
            <a:endParaRPr b="0" lang="en-US" sz="3600" spc="-1" strike="noStrike">
              <a:solidFill>
                <a:srgbClr val="000000"/>
              </a:solidFill>
              <a:latin typeface="Calibri Light"/>
            </a:endParaRPr>
          </a:p>
        </p:txBody>
      </p:sp>
      <p:sp>
        <p:nvSpPr>
          <p:cNvPr id="68" name=""/>
          <p:cNvSpPr txBox="1"/>
          <p:nvPr/>
        </p:nvSpPr>
        <p:spPr>
          <a:xfrm>
            <a:off x="914400" y="1447920"/>
            <a:ext cx="7696080" cy="487656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1. Thông tin thuộc bí mật nhà nước: TT có nội dung quan trọng thuộc lĩnh vực chính trị, quốc phòng, an ninh QG, đối ngoại, KT, KH, CN và các lĩnh vực khác theo quy định của PL;</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2. Thông tin nếu tiếp cận sẽ gây nguy hại đến lợi ích NN, ảnh hưởng xấu đến QP, ANQG, quan hệ QT, TTATXH, đạo đức XH, sức khoẻ cộng đồng; gây nguy hại điến tính mạng, cuộc song hoặc tài sản người khác;</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3. Thông tin thuộc bí mật công tác;</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4. Thông tin về cuộc họp nội bộ của cơ quan NN;</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5. Tài liệu do cơ quan NN soạn thảo cho công việc nội bộ.</a:t>
            </a:r>
            <a:endParaRPr b="0" lang="en-US" sz="24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04920"/>
            <a:ext cx="7886880" cy="7617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Thông tin được tiếp cận có điều kiện</a:t>
            </a:r>
            <a:endParaRPr b="0" lang="en-US" sz="3200" spc="-1" strike="noStrike">
              <a:solidFill>
                <a:srgbClr val="000000"/>
              </a:solidFill>
              <a:latin typeface="Calibri Light"/>
            </a:endParaRPr>
          </a:p>
        </p:txBody>
      </p:sp>
      <p:sp>
        <p:nvSpPr>
          <p:cNvPr id="70" name=""/>
          <p:cNvSpPr txBox="1"/>
          <p:nvPr/>
        </p:nvSpPr>
        <p:spPr>
          <a:xfrm>
            <a:off x="914400" y="1447920"/>
            <a:ext cx="7696080" cy="487656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1. TT liên quan đến bí mật kinh doanh: được tiếp cận khi có sự đồng ý của chủ sở hữu bí mật KD;</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2. TT liên quan đến bí mật đời sống riêng tư, bí mật cá nhân: được tiếp cận khi người đó đồng ý;</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3. TT liên quan đến bí mật gia đình: được tiếp cận khi các thành viên GĐ đồng ý.</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400" spc="-1" strike="noStrike">
                <a:solidFill>
                  <a:srgbClr val="000000"/>
                </a:solidFill>
                <a:latin typeface="Arial"/>
                <a:ea typeface="Arial"/>
              </a:rPr>
              <a:t>Người đứng đầu CQNN quyết định việc cung cấp TT nêu trên trong trường hợp cần thiết vì lợi ích công cộng, sức khoẻ cộng đồng mà không cần có sự đồng ý của chủ sở hữu.</a:t>
            </a:r>
            <a:endParaRPr b="0" lang="en-US" sz="24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04920"/>
            <a:ext cx="7886880" cy="7617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Hành vi bị nghiêm cấm</a:t>
            </a:r>
            <a:endParaRPr b="0" lang="en-US" sz="3200" spc="-1" strike="noStrike">
              <a:solidFill>
                <a:srgbClr val="000000"/>
              </a:solidFill>
              <a:latin typeface="Calibri Light"/>
            </a:endParaRPr>
          </a:p>
        </p:txBody>
      </p:sp>
      <p:sp>
        <p:nvSpPr>
          <p:cNvPr id="72" name=""/>
          <p:cNvSpPr txBox="1"/>
          <p:nvPr/>
        </p:nvSpPr>
        <p:spPr>
          <a:xfrm>
            <a:off x="914400" y="1447920"/>
            <a:ext cx="7696080" cy="4876560"/>
          </a:xfrm>
          <a:prstGeom prst="rect">
            <a:avLst/>
          </a:prstGeom>
          <a:noFill/>
          <a:ln w="0">
            <a:noFill/>
          </a:ln>
        </p:spPr>
        <p:txBody>
          <a:bodyPr anchor="t">
            <a:normAutofit/>
          </a:bodyPr>
          <a:p>
            <a:pPr marL="457200" indent="-457200" algn="just">
              <a:lnSpc>
                <a:spcPct val="90000"/>
              </a:lnSpc>
              <a:spcBef>
                <a:spcPts val="751"/>
              </a:spcBef>
              <a:spcAft>
                <a:spcPts val="601"/>
              </a:spcAft>
              <a:buClr>
                <a:srgbClr val="000000"/>
              </a:buClr>
              <a:buFont typeface="Arial"/>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Cố ý cung cấp TT sai lệch, không đầy đủ, trì hoãn việc cung cấp TT;</a:t>
            </a:r>
            <a:endParaRPr b="0" lang="en-US" sz="2400" spc="-1" strike="noStrike">
              <a:solidFill>
                <a:srgbClr val="000000"/>
              </a:solidFill>
              <a:latin typeface="Calibri"/>
            </a:endParaRPr>
          </a:p>
          <a:p>
            <a:pPr marL="457200" indent="-45720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2. Huỷ hoại TT;</a:t>
            </a:r>
            <a:endParaRPr b="0" lang="en-US" sz="2400" spc="-1" strike="noStrike">
              <a:solidFill>
                <a:srgbClr val="000000"/>
              </a:solidFill>
              <a:latin typeface="Calibri"/>
            </a:endParaRPr>
          </a:p>
          <a:p>
            <a:pPr marL="457200" indent="-45720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3. Làm giả TT;</a:t>
            </a:r>
            <a:endParaRPr b="0" lang="en-US" sz="2400" spc="-1" strike="noStrike">
              <a:solidFill>
                <a:srgbClr val="000000"/>
              </a:solidFill>
              <a:latin typeface="Calibri"/>
            </a:endParaRPr>
          </a:p>
          <a:p>
            <a:pPr marL="457200" indent="-45720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4. Cung cấp hoặc sử dung TT để chống lại NN, phá hoại chính sách đoàn kết, kích động bạo lực;</a:t>
            </a:r>
            <a:endParaRPr b="0" lang="en-US" sz="2400" spc="-1" strike="noStrike">
              <a:solidFill>
                <a:srgbClr val="000000"/>
              </a:solidFill>
              <a:latin typeface="Calibri"/>
            </a:endParaRPr>
          </a:p>
          <a:p>
            <a:pPr marL="457200" indent="-45720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5. Cung cấp hoặc sử dung TT để xúc phạm danh dự, nhân phẩm, uy tín, gây kỳ thị về giới, gây thiệt hị về TS của cá nhân, cơ quan, tổ chức;</a:t>
            </a:r>
            <a:endParaRPr b="0" lang="en-US" sz="2400" spc="-1" strike="noStrike">
              <a:solidFill>
                <a:srgbClr val="000000"/>
              </a:solidFill>
              <a:latin typeface="Calibri"/>
            </a:endParaRPr>
          </a:p>
          <a:p>
            <a:pPr marL="457200" indent="-45720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6. Cản trở, đe doạ, trù dập người yêu cầu, người cung cấp TT.</a:t>
            </a:r>
            <a:endParaRPr b="0" lang="en-US" sz="2400" spc="-1" strike="noStrike">
              <a:solidFill>
                <a:srgbClr val="000000"/>
              </a:solidFill>
              <a:latin typeface="Calibri"/>
            </a:endParaRPr>
          </a:p>
          <a:p>
            <a:pPr marL="457200" indent="-457200">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marL="457200" indent="-457200">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304560"/>
            <a:ext cx="7886880" cy="9903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Xử lý vi phạm</a:t>
            </a:r>
            <a:endParaRPr b="0" lang="en-US" sz="3200" spc="-1" strike="noStrike">
              <a:solidFill>
                <a:srgbClr val="000000"/>
              </a:solidFill>
              <a:latin typeface="Calibri Light"/>
            </a:endParaRPr>
          </a:p>
        </p:txBody>
      </p:sp>
      <p:sp>
        <p:nvSpPr>
          <p:cNvPr id="74" name=""/>
          <p:cNvSpPr txBox="1"/>
          <p:nvPr/>
        </p:nvSpPr>
        <p:spPr>
          <a:xfrm>
            <a:off x="914400" y="1828800"/>
            <a:ext cx="7696080" cy="449568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1. Người có hành vi vi phạm quy định của PL về tiếp cận TT thì tuỳ theo tính chất, mức độ vi phạm mà bị xử lý kỷ luật, xử lý vi phạm hành chính hoặc xử lý hình sự.</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2. Người cung cấp TT có một trong các hành vi bị nghiêm cấm, gây thiệt hại thì CQNN cung cấp TT phải bồi thường thiệt hại, cá nhân có hành vi vi phạm phải hoàn trả lại theo quy định của PL về trách nhiệm bồi thường của NN.</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151920"/>
            <a:ext cx="7886880" cy="621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Luật An ninh mạng</a:t>
            </a:r>
            <a:endParaRPr b="0" lang="en-US" sz="3200" spc="-1" strike="noStrike">
              <a:solidFill>
                <a:srgbClr val="000000"/>
              </a:solidFill>
              <a:latin typeface="Calibri Light"/>
            </a:endParaRPr>
          </a:p>
        </p:txBody>
      </p:sp>
      <p:sp>
        <p:nvSpPr>
          <p:cNvPr id="76" name="Rounded Rectangle 7"/>
          <p:cNvSpPr/>
          <p:nvPr/>
        </p:nvSpPr>
        <p:spPr>
          <a:xfrm>
            <a:off x="1143000" y="2198520"/>
            <a:ext cx="7467480" cy="4354560"/>
          </a:xfrm>
          <a:prstGeom prst="roundRect">
            <a:avLst>
              <a:gd name="adj" fmla="val 16667"/>
            </a:avLst>
          </a:prstGeom>
          <a:solidFill>
            <a:srgbClr val="ffffff"/>
          </a:solidFill>
          <a:ln w="12600">
            <a:solidFill>
              <a:srgbClr val="5b9bd5"/>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ột số nội dung cơ bản</a:t>
            </a:r>
            <a:endParaRPr b="0" lang="en-US" sz="2800" spc="-1" strike="noStrike">
              <a:solidFill>
                <a:srgbClr val="000000"/>
              </a:solidFill>
              <a:latin typeface="Tahom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Phạm vi điều chỉnh;</a:t>
            </a:r>
            <a:endParaRPr b="0" lang="en-US" sz="2800" spc="-1" strike="noStrike">
              <a:solidFill>
                <a:srgbClr val="000000"/>
              </a:solidFill>
              <a:latin typeface="Tahom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Các hành vi bị nghiêm cấm;</a:t>
            </a:r>
            <a:endParaRPr b="0" lang="en-US" sz="2800" spc="-1" strike="noStrike">
              <a:solidFill>
                <a:srgbClr val="000000"/>
              </a:solidFill>
              <a:latin typeface="Tahom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Phòng ngừa, xử lý hành vi xâm phạm ANM;</a:t>
            </a:r>
            <a:endParaRPr b="0" lang="en-US" sz="2800" spc="-1" strike="noStrike">
              <a:solidFill>
                <a:srgbClr val="000000"/>
              </a:solidFill>
              <a:latin typeface="Tahom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Bảo vệ trẻ em trên không gian mạng;</a:t>
            </a:r>
            <a:endParaRPr b="0" lang="en-US" sz="2800" spc="-1" strike="noStrike">
              <a:solidFill>
                <a:srgbClr val="000000"/>
              </a:solidFill>
              <a:latin typeface="Tahom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Trách nhiệm của các cơ quan, tổ chức.</a:t>
            </a:r>
            <a:endParaRPr b="0" lang="en-US" sz="2800" spc="-1" strike="noStrike">
              <a:solidFill>
                <a:srgbClr val="000000"/>
              </a:solidFill>
              <a:latin typeface="Tahoma"/>
            </a:endParaRPr>
          </a:p>
        </p:txBody>
      </p:sp>
      <p:sp>
        <p:nvSpPr>
          <p:cNvPr id="77" name="Rounded Rectangle 8"/>
          <p:cNvSpPr/>
          <p:nvPr/>
        </p:nvSpPr>
        <p:spPr>
          <a:xfrm>
            <a:off x="1143000" y="990720"/>
            <a:ext cx="7467480" cy="990360"/>
          </a:xfrm>
          <a:prstGeom prst="roundRect">
            <a:avLst>
              <a:gd name="adj" fmla="val 16667"/>
            </a:avLst>
          </a:prstGeom>
          <a:solidFill>
            <a:srgbClr val="ffffff"/>
          </a:solidFill>
          <a:ln w="1260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ý do ban hành L</a:t>
            </a:r>
            <a:r>
              <a:rPr b="1" lang="en-US" sz="2400" spc="-1" strike="noStrike">
                <a:solidFill>
                  <a:srgbClr val="000000"/>
                </a:solidFill>
                <a:latin typeface="Times New Roman"/>
                <a:ea typeface="Times New Roman"/>
              </a:rPr>
              <a:t>uậ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28560" y="228600"/>
            <a:ext cx="788688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Arial"/>
                <a:ea typeface="Arial"/>
              </a:rPr>
              <a:t>Lý do ban hành Luật</a:t>
            </a:r>
            <a:endParaRPr b="0" lang="en-US" sz="4000" spc="-1" strike="noStrike">
              <a:solidFill>
                <a:srgbClr val="000000"/>
              </a:solidFill>
              <a:latin typeface="Calibri Light"/>
            </a:endParaRPr>
          </a:p>
        </p:txBody>
      </p:sp>
      <p:sp>
        <p:nvSpPr>
          <p:cNvPr id="79" name=""/>
          <p:cNvSpPr txBox="1"/>
          <p:nvPr/>
        </p:nvSpPr>
        <p:spPr>
          <a:xfrm>
            <a:off x="837720" y="1523880"/>
            <a:ext cx="7543800" cy="502920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1</a:t>
            </a:r>
            <a:r>
              <a:rPr b="0" lang="en-US" sz="3200" spc="-1" strike="noStrike">
                <a:solidFill>
                  <a:srgbClr val="000000"/>
                </a:solidFill>
                <a:latin typeface="Arial"/>
                <a:ea typeface="Arial"/>
              </a:rPr>
              <a:t>. Nguy cơ tiềm ẩn, mặt trái của sự phát triển mạng XH, trí tuệ nhân tạo.</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2. Diễn biến phức tạp của các cuộc tấn công mạng.</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3. Bảo vệ chủ quyền, lợi ích QG; quyền và lợi ích của CQ, TC, cá nhân khi tham gia hoạt động trên không gian mạng.</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4. Nâng cao năng lực tự chủ về an ninh mạ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304920"/>
            <a:ext cx="788688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Arial"/>
                <a:ea typeface="Arial"/>
              </a:rPr>
              <a:t>Phạm vi điều chỉnh</a:t>
            </a:r>
            <a:endParaRPr b="0" lang="en-US" sz="4000" spc="-1" strike="noStrike">
              <a:solidFill>
                <a:srgbClr val="000000"/>
              </a:solidFill>
              <a:latin typeface="Calibri Light"/>
            </a:endParaRPr>
          </a:p>
        </p:txBody>
      </p:sp>
      <p:sp>
        <p:nvSpPr>
          <p:cNvPr id="81" name=""/>
          <p:cNvSpPr txBox="1"/>
          <p:nvPr/>
        </p:nvSpPr>
        <p:spPr>
          <a:xfrm>
            <a:off x="1143000" y="1981080"/>
            <a:ext cx="7238880" cy="4267440"/>
          </a:xfrm>
          <a:prstGeom prst="rect">
            <a:avLst/>
          </a:prstGeom>
          <a:noFill/>
          <a:ln w="0">
            <a:noFill/>
          </a:ln>
        </p:spPr>
        <p:txBody>
          <a:bodyPr anchor="t">
            <a:normAutofit/>
          </a:bodyPr>
          <a:p>
            <a:pPr marL="171360" indent="-171360"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Hoạt động bảo vệ ANQG và bảo đảm TTATXH trên không gian mạng;</a:t>
            </a:r>
            <a:endParaRPr b="0" lang="en-US" sz="3600" spc="-1" strike="noStrike">
              <a:solidFill>
                <a:srgbClr val="000000"/>
              </a:solidFill>
              <a:latin typeface="Calibri"/>
            </a:endParaRPr>
          </a:p>
          <a:p>
            <a:pPr marL="171360" indent="-171360"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Trách nhiệm của cơ quan, tổ chức, cá nhân.</a:t>
            </a:r>
            <a:endParaRPr b="0" lang="en-US" sz="3600" spc="-1" strike="noStrike">
              <a:solidFill>
                <a:srgbClr val="000000"/>
              </a:solidFill>
              <a:latin typeface="Calibri"/>
            </a:endParaRPr>
          </a:p>
          <a:p>
            <a:pPr marL="171360" indent="-171360">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228240"/>
            <a:ext cx="7886880" cy="6858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Arial"/>
                <a:ea typeface="Arial"/>
              </a:rPr>
              <a:t>Các hành vi bị nghiêm cấm</a:t>
            </a:r>
            <a:endParaRPr b="0" lang="en-US" sz="4000" spc="-1" strike="noStrike">
              <a:solidFill>
                <a:srgbClr val="000000"/>
              </a:solidFill>
              <a:latin typeface="Calibri Light"/>
            </a:endParaRPr>
          </a:p>
        </p:txBody>
      </p:sp>
      <p:sp>
        <p:nvSpPr>
          <p:cNvPr id="83" name=""/>
          <p:cNvSpPr txBox="1"/>
          <p:nvPr/>
        </p:nvSpPr>
        <p:spPr>
          <a:xfrm>
            <a:off x="761760" y="1066680"/>
            <a:ext cx="7753320" cy="563904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1. Sử dung không gian mạng, CNTT, phương tiện điện tử để VPPL về ANQG, TTATXH;</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2. Tổ chức, hoạt động, câu kết, xúi giục, mua chuộc, lừa gạt, lôi kéo, đào tạo, huấn luyện người chống nhà nước;</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3. Xuyên tạc lịch sử, phủ nhận thành tựu cách mạng, phá hoại khối đại đoàn kết toàn dân tộc, xúc phạm tôn giáo, phân biệt đối xử về giới, phân biệt chủng tộc;</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4. Thông tin sau sự that gây hoang mang trong ND, gây thiệt hại cho hoạt động KT-XH, gây khó khan cho hoạt động củ QCNN hoặc người thi hành công vụ; xâm phạm quyền và lợi ích của CQ, TC, cá nhân;</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5. Hoạt động mại dâm, tệ nạn XH, mua bán người; đăng tải thông tin dâm ô, đồi truỵ, tội ác; phá hoại thuần phong mỹ tục, đạo đức XH, sức khoẻ cộng đồng;</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6. Xúi giục, kích động, lôi kéo người khác phạm tội.</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52320" y="228600"/>
            <a:ext cx="7886880" cy="990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Phòng ngừa, xử lý hành vi </a:t>
            </a:r>
            <a:br>
              <a:rPr sz="3200"/>
            </a:br>
            <a:r>
              <a:rPr b="1" lang="en-US" sz="3200" spc="-1" strike="noStrike">
                <a:solidFill>
                  <a:srgbClr val="000000"/>
                </a:solidFill>
                <a:latin typeface="Arial"/>
                <a:ea typeface="Arial"/>
              </a:rPr>
              <a:t>xâm phạm an ninh mạng</a:t>
            </a:r>
            <a:endParaRPr b="0" lang="en-US" sz="3200" spc="-1" strike="noStrike">
              <a:solidFill>
                <a:srgbClr val="000000"/>
              </a:solidFill>
              <a:latin typeface="Calibri Light"/>
            </a:endParaRPr>
          </a:p>
        </p:txBody>
      </p:sp>
      <p:sp>
        <p:nvSpPr>
          <p:cNvPr id="85" name=""/>
          <p:cNvSpPr txBox="1"/>
          <p:nvPr/>
        </p:nvSpPr>
        <p:spPr>
          <a:xfrm>
            <a:off x="838080" y="1371240"/>
            <a:ext cx="7886880" cy="5257800"/>
          </a:xfrm>
          <a:prstGeom prst="rect">
            <a:avLst/>
          </a:prstGeom>
          <a:noFill/>
          <a:ln w="0">
            <a:noFill/>
          </a:ln>
        </p:spPr>
        <p:txBody>
          <a:bodyPr anchor="t">
            <a:normAutofit fontScale="99000"/>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Nhận diện các thông tin, hành vi trên không gian mạng là vi phạm ANM trong các lĩnh vực:</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Tuyên truyền chống phá NN, kích động, gây bạo loạn, phá rối AN, gây rối TTCC, làm nhục, vu khống; xâm phạm TTQLKT.</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Gián điệp mạng, bảo vệ TT bí mật NN, bí mật công tác, bí mật KD, bí mật cá nhân, gia đình và đời sống riêng tư.</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Sử dụng không gian mạng, CNTT, phương tiện điện tử để VPPL về ANQG, TTATXH.</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Hành vi tấn công mạng.</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Tình huống nguy hiểm về ANM.</a:t>
            </a:r>
            <a:endParaRPr b="0" lang="en-US" sz="24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Các biện pháp phòng ngừa, xử lý; trách nhiệm của các bộ, ngàn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52320" y="228600"/>
            <a:ext cx="7886880" cy="990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ea typeface="Arial"/>
              </a:rPr>
              <a:t>Gián điệp mạng, xâm phạm bí mật NN, bí mật công tác, bí mật KD, bí mật cá nhân, gia đình</a:t>
            </a:r>
            <a:endParaRPr b="0" lang="en-US" sz="2800" spc="-1" strike="noStrike">
              <a:solidFill>
                <a:srgbClr val="000000"/>
              </a:solidFill>
              <a:latin typeface="Calibri Light"/>
            </a:endParaRPr>
          </a:p>
        </p:txBody>
      </p:sp>
      <p:sp>
        <p:nvSpPr>
          <p:cNvPr id="87" name=""/>
          <p:cNvSpPr txBox="1"/>
          <p:nvPr/>
        </p:nvSpPr>
        <p:spPr>
          <a:xfrm>
            <a:off x="533520" y="1523520"/>
            <a:ext cx="8191440" cy="480060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Chiếm đoạt, mua bán, thu giữ, cố ý làm lộ TT thuộc bí mật NN, bí mật công tác, bí mật KD, bí mật cá nhân, gia đình và đời sống riêng tư;</a:t>
            </a:r>
            <a:endParaRPr b="0" lang="en-US" sz="26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Cố ý xoá, làm hư hỏng, thất lạc, thay đổi TT bí mật NN… được truyền đưa, lưu giữ trên không gian mạng;</a:t>
            </a:r>
            <a:endParaRPr b="0" lang="en-US" sz="26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Cố ý thay đổi, huỷ bỏ hoặc làm vô hiệu hoá biện pháp lỹ thuật được áp dụng để bảo vệ TT bí mật NN…;</a:t>
            </a:r>
            <a:endParaRPr b="0" lang="en-US" sz="26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Đưa lên không gian mạng những thông tin bí mật NN… trái PL;</a:t>
            </a:r>
            <a:endParaRPr b="0" lang="en-US" sz="26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Cố ý nghe, ghi âm, ghi hình trái phép các cuộc đàm thoại.</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151920"/>
            <a:ext cx="7886880" cy="7621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Luật tiếp cận thông tin</a:t>
            </a:r>
            <a:endParaRPr b="0" lang="en-US" sz="3200" spc="-1" strike="noStrike">
              <a:solidFill>
                <a:srgbClr val="000000"/>
              </a:solidFill>
              <a:latin typeface="Calibri Light"/>
            </a:endParaRPr>
          </a:p>
        </p:txBody>
      </p:sp>
      <p:sp>
        <p:nvSpPr>
          <p:cNvPr id="51" name="Rounded Rectangle 3"/>
          <p:cNvSpPr/>
          <p:nvPr/>
        </p:nvSpPr>
        <p:spPr>
          <a:xfrm>
            <a:off x="1371600" y="1066680"/>
            <a:ext cx="7238880" cy="762120"/>
          </a:xfrm>
          <a:prstGeom prst="roundRect">
            <a:avLst>
              <a:gd name="adj" fmla="val 16667"/>
            </a:avLst>
          </a:prstGeom>
          <a:solidFill>
            <a:srgbClr val="ffffff"/>
          </a:solidFill>
          <a:ln w="1260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ý do ban hành Luật</a:t>
            </a:r>
            <a:endParaRPr b="0" lang="en-US" sz="2800" spc="-1" strike="noStrike">
              <a:solidFill>
                <a:srgbClr val="000000"/>
              </a:solidFill>
              <a:latin typeface="Tahoma"/>
            </a:endParaRPr>
          </a:p>
        </p:txBody>
      </p:sp>
      <p:sp>
        <p:nvSpPr>
          <p:cNvPr id="52" name="Rounded Rectangle 6"/>
          <p:cNvSpPr/>
          <p:nvPr/>
        </p:nvSpPr>
        <p:spPr>
          <a:xfrm>
            <a:off x="1371600" y="2122560"/>
            <a:ext cx="7238880" cy="4278240"/>
          </a:xfrm>
          <a:prstGeom prst="roundRect">
            <a:avLst>
              <a:gd name="adj" fmla="val 16667"/>
            </a:avLst>
          </a:prstGeom>
          <a:solidFill>
            <a:srgbClr val="ffffff"/>
          </a:solidFill>
          <a:ln w="12600">
            <a:solidFill>
              <a:srgbClr val="5b9bd5"/>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ột số nội dung cơ bản</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Phạm vi điều chỉnh;</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Nguyên tắc bảo đảm quyền tiếp cận TT;</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Chủ thể thực hiện quyền tiếp cận TT;</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Cách thức tiếp cận thông tin;</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Phạm vi thông tin được tiếp cận;</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 Hành vi bị nghiêm cấm;</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 Xử lý vi phạm </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52320" y="228600"/>
            <a:ext cx="7886880" cy="990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Sử dụng không gian mạng, CNTT, phương tiện điện tử để VPPL</a:t>
            </a:r>
            <a:endParaRPr b="0" lang="en-US" sz="3200" spc="-1" strike="noStrike">
              <a:solidFill>
                <a:srgbClr val="000000"/>
              </a:solidFill>
              <a:latin typeface="Calibri Light"/>
            </a:endParaRPr>
          </a:p>
        </p:txBody>
      </p:sp>
      <p:sp>
        <p:nvSpPr>
          <p:cNvPr id="89" name=""/>
          <p:cNvSpPr txBox="1"/>
          <p:nvPr/>
        </p:nvSpPr>
        <p:spPr>
          <a:xfrm>
            <a:off x="533520" y="1523520"/>
            <a:ext cx="8191440" cy="480060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Đăng tải, phát tán TT trên không gian mạng có nội dung chống phá NN, gây bạo loạn, phá rối AN, làm nhục, vu khống; nội dung thuộc bí mật NN, bí mật công tác, bí mật KD, bí mật cá nhân, gia đình và đời song riêng tư.</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Chiếm đoạt TS, tổ chức đánh bạc, đánh bạc qua mạng, trộm cắp cước viễn thông quốc tế trên nền Internet; vi phạm bản quyền và quyền SHTT trên không gian mạng.</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Tuyên truyền, quảng cáo, mua bán hàng hoá, dịch vụ thuộc danh mục cấm.</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Hướng dẫn người khác thực hiện hành vi VPPL.</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Giả mạo trang TTĐT của CQ, TC, cá nhân; làm giả, lưu hành, trộm cắp, mua bán, thu thập, trao đổi trái phép TT thẻ tín dung, tài khoản NH của người khác.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52320" y="228600"/>
            <a:ext cx="7886880" cy="990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Bảo vệ trẻ em trên không gian mạng</a:t>
            </a:r>
            <a:endParaRPr b="0" lang="en-US" sz="3200" spc="-1" strike="noStrike">
              <a:solidFill>
                <a:srgbClr val="000000"/>
              </a:solidFill>
              <a:latin typeface="Calibri Light"/>
            </a:endParaRPr>
          </a:p>
        </p:txBody>
      </p:sp>
      <p:sp>
        <p:nvSpPr>
          <p:cNvPr id="91" name=""/>
          <p:cNvSpPr txBox="1"/>
          <p:nvPr/>
        </p:nvSpPr>
        <p:spPr>
          <a:xfrm>
            <a:off x="1142640" y="1523520"/>
            <a:ext cx="7396200" cy="480060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TE có quyền được bảo vệ, tiếp cận thông tin, tham gia hoạt động XH, vui chơi, giải trí, giữ bí mật cá nhân, đời sống riêng tư khi tham gia trên không gian mạng.</a:t>
            </a:r>
            <a:endParaRPr b="0" lang="en-US" sz="28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Các DN cung cấp dịch vụ có trách nhiệm kiểm soát nội dung thông tin; ngăn chặn việc chia sẻ và xoá bỏ thông tin có nội dung gây hại cho TE, xâm phạm đến 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52320" y="228600"/>
            <a:ext cx="7886880" cy="990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Arial"/>
                <a:ea typeface="Arial"/>
              </a:rPr>
              <a:t>Lực lượng bảo vệ an ninh mạng</a:t>
            </a:r>
            <a:endParaRPr b="0" lang="en-US" sz="3600" spc="-1" strike="noStrike">
              <a:solidFill>
                <a:srgbClr val="000000"/>
              </a:solidFill>
              <a:latin typeface="Calibri Light"/>
            </a:endParaRPr>
          </a:p>
        </p:txBody>
      </p:sp>
      <p:sp>
        <p:nvSpPr>
          <p:cNvPr id="93" name=""/>
          <p:cNvSpPr txBox="1"/>
          <p:nvPr/>
        </p:nvSpPr>
        <p:spPr>
          <a:xfrm>
            <a:off x="1066320" y="1599840"/>
            <a:ext cx="7472520" cy="472428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Lực lượng chuyên trách bảo vệ an ninh mạng được bố trí tại Bộ Công an và Bộ Quốc phòng.</a:t>
            </a:r>
            <a:endParaRPr b="0" lang="en-US" sz="32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Lực lượng bảo vệ an ninh mạng được bố trí tại Bộ, ngành, Uỷ ban nhân dân cấp tỉnh, cơ quan quản lý trực tiếp hệ thống thông tin quan trọng về ANQG.</a:t>
            </a:r>
            <a:endParaRPr b="0" lang="en-US" sz="32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Tổ chức, cá nhân được huy độ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52320" y="380880"/>
            <a:ext cx="788688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Arial"/>
                <a:ea typeface="Arial"/>
              </a:rPr>
              <a:t>Xử lý vi phạm</a:t>
            </a:r>
            <a:endParaRPr b="0" lang="en-US" sz="3600" spc="-1" strike="noStrike">
              <a:solidFill>
                <a:srgbClr val="000000"/>
              </a:solidFill>
              <a:latin typeface="Calibri Light"/>
            </a:endParaRPr>
          </a:p>
        </p:txBody>
      </p:sp>
      <p:sp>
        <p:nvSpPr>
          <p:cNvPr id="95" name=""/>
          <p:cNvSpPr txBox="1"/>
          <p:nvPr/>
        </p:nvSpPr>
        <p:spPr>
          <a:xfrm>
            <a:off x="1066320" y="1905120"/>
            <a:ext cx="7472520" cy="4419360"/>
          </a:xfrm>
          <a:prstGeom prst="rect">
            <a:avLst/>
          </a:prstGeom>
          <a:noFill/>
          <a:ln w="0">
            <a:noFill/>
          </a:ln>
        </p:spPr>
        <p:txBody>
          <a:bodyPr anchor="t">
            <a:norm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Người nào có hành vi vi phạm quy định của Luật này, tuỳ tính chất, mức độ vi phạm mà bị xử lý kỷ luật, xử lý vi phạm hành chính hoặc truy cứu trách nhiệm hình sự. Nếu gây thiệt hại thì phải bồi thường theo quy định cuả pháp luậ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TRÂN TRỌNG CẢM Ơ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28600"/>
            <a:ext cx="788688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Arial"/>
                <a:ea typeface="Arial"/>
              </a:rPr>
              <a:t>Lý do ban hành Luật</a:t>
            </a:r>
            <a:endParaRPr b="0" lang="en-US" sz="4000" spc="-1" strike="noStrike">
              <a:solidFill>
                <a:srgbClr val="000000"/>
              </a:solidFill>
              <a:latin typeface="Calibri Light"/>
            </a:endParaRPr>
          </a:p>
        </p:txBody>
      </p:sp>
      <p:sp>
        <p:nvSpPr>
          <p:cNvPr id="54" name=""/>
          <p:cNvSpPr txBox="1"/>
          <p:nvPr/>
        </p:nvSpPr>
        <p:spPr>
          <a:xfrm>
            <a:off x="1143000" y="1523880"/>
            <a:ext cx="7238880" cy="4191120"/>
          </a:xfrm>
          <a:prstGeom prst="rect">
            <a:avLst/>
          </a:prstGeom>
          <a:noFill/>
          <a:ln w="0">
            <a:noFill/>
          </a:ln>
        </p:spPr>
        <p:txBody>
          <a:bodyPr anchor="t">
            <a:normAutofit/>
          </a:bodyPr>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1</a:t>
            </a:r>
            <a:r>
              <a:rPr b="0" lang="en-US" sz="3200" spc="-1" strike="noStrike">
                <a:solidFill>
                  <a:srgbClr val="000000"/>
                </a:solidFill>
                <a:latin typeface="Arial"/>
                <a:ea typeface="Arial"/>
              </a:rPr>
              <a:t>. Thể chế hoá quy định của HP 2013 về quyền được tiếp cận thông tin của công dân.</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2. Phù hợp với sự phát triển của thực tiễn cuộc sống, đáp ứng nhu cầu của người dân.</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3. Phù hợp với yêu cầu hội nhập quốc tế.</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228600"/>
            <a:ext cx="788688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Arial"/>
                <a:ea typeface="Arial"/>
              </a:rPr>
              <a:t>Bố cục</a:t>
            </a:r>
            <a:endParaRPr b="0" lang="en-US" sz="4000" spc="-1" strike="noStrike">
              <a:solidFill>
                <a:srgbClr val="000000"/>
              </a:solidFill>
              <a:latin typeface="Calibri Light"/>
            </a:endParaRPr>
          </a:p>
        </p:txBody>
      </p:sp>
      <p:sp>
        <p:nvSpPr>
          <p:cNvPr id="56" name=""/>
          <p:cNvSpPr txBox="1"/>
          <p:nvPr/>
        </p:nvSpPr>
        <p:spPr>
          <a:xfrm>
            <a:off x="1143000" y="1447560"/>
            <a:ext cx="7238880" cy="4800600"/>
          </a:xfrm>
          <a:prstGeom prst="rect">
            <a:avLst/>
          </a:prstGeom>
          <a:noFill/>
          <a:ln w="0">
            <a:noFill/>
          </a:ln>
        </p:spPr>
        <p:txBody>
          <a:bodyPr anchor="t">
            <a:normAutofit/>
          </a:bodyPr>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05 chương, 37 điều:</a:t>
            </a: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Chương I: Những quy định chung</a:t>
            </a: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Chương II: Công khai thông tin</a:t>
            </a: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Chương III: Cung cấp thông tin theo yêu cầu</a:t>
            </a: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Chương IV: Trách nhiệm bảo đảm thực hiện quyền tiếp cận TT của CD</a:t>
            </a: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Chương V: Điều khoản thi hàn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04920"/>
            <a:ext cx="788688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Arial"/>
                <a:ea typeface="Arial"/>
              </a:rPr>
              <a:t>Phạm vi điều chỉnh</a:t>
            </a:r>
            <a:endParaRPr b="0" lang="en-US" sz="4000" spc="-1" strike="noStrike">
              <a:solidFill>
                <a:srgbClr val="000000"/>
              </a:solidFill>
              <a:latin typeface="Calibri Light"/>
            </a:endParaRPr>
          </a:p>
        </p:txBody>
      </p:sp>
      <p:sp>
        <p:nvSpPr>
          <p:cNvPr id="58" name=""/>
          <p:cNvSpPr txBox="1"/>
          <p:nvPr/>
        </p:nvSpPr>
        <p:spPr>
          <a:xfrm>
            <a:off x="1143000" y="1676520"/>
            <a:ext cx="7238880" cy="4572000"/>
          </a:xfrm>
          <a:prstGeom prst="rect">
            <a:avLst/>
          </a:prstGeom>
          <a:noFill/>
          <a:ln w="0">
            <a:noFill/>
          </a:ln>
        </p:spPr>
        <p:txBody>
          <a:bodyPr anchor="t">
            <a:normAutofit/>
          </a:bodyPr>
          <a:p>
            <a:pPr marL="171360" indent="-171360"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Arial"/>
                <a:ea typeface="Arial"/>
              </a:rPr>
              <a:t>Thực hiện quyền tiếp cận TT của CD;</a:t>
            </a:r>
            <a:endParaRPr b="0" lang="en-US" sz="3600" spc="-1" strike="noStrike">
              <a:solidFill>
                <a:srgbClr val="000000"/>
              </a:solidFill>
              <a:latin typeface="Calibri"/>
            </a:endParaRPr>
          </a:p>
          <a:p>
            <a:pPr marL="171360" indent="-171360"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Arial"/>
                <a:ea typeface="Arial"/>
              </a:rPr>
              <a:t>Nguyên tắc, trình tự, thủ tục thực hiện quyền tiếp cận TT;</a:t>
            </a:r>
            <a:endParaRPr b="0" lang="en-US" sz="3600" spc="-1" strike="noStrike">
              <a:solidFill>
                <a:srgbClr val="000000"/>
              </a:solidFill>
              <a:latin typeface="Calibri"/>
            </a:endParaRPr>
          </a:p>
          <a:p>
            <a:pPr marL="171360" indent="-17136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Arial"/>
                <a:ea typeface="Arial"/>
              </a:rPr>
              <a:t>- Trách nhiệm, nghĩa vụ của cơ quan nhà nước trong việc bảo đảm quyền tiếp cận TT của CD</a:t>
            </a:r>
            <a:endParaRPr b="0" lang="en-US" sz="3600" spc="-1" strike="noStrike">
              <a:solidFill>
                <a:srgbClr val="000000"/>
              </a:solidFill>
              <a:latin typeface="Calibri"/>
            </a:endParaRPr>
          </a:p>
          <a:p>
            <a:pPr marL="171360" indent="-171360">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04920"/>
            <a:ext cx="7886880" cy="7617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800" spc="-1" strike="noStrike">
                <a:solidFill>
                  <a:srgbClr val="000000"/>
                </a:solidFill>
                <a:latin typeface="Arial"/>
                <a:ea typeface="Arial"/>
              </a:rPr>
              <a:t>Nguyên tắc bảo đảm quyền TCTT</a:t>
            </a:r>
            <a:endParaRPr b="0" lang="en-US" sz="3800" spc="-1" strike="noStrike">
              <a:solidFill>
                <a:srgbClr val="000000"/>
              </a:solidFill>
              <a:latin typeface="Calibri Light"/>
            </a:endParaRPr>
          </a:p>
        </p:txBody>
      </p:sp>
      <p:sp>
        <p:nvSpPr>
          <p:cNvPr id="60" name=""/>
          <p:cNvSpPr txBox="1"/>
          <p:nvPr/>
        </p:nvSpPr>
        <p:spPr>
          <a:xfrm>
            <a:off x="628560" y="1219320"/>
            <a:ext cx="8134560" cy="533376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1. Bình đẳng, không bị phân biệt đối xử trong thực hiện quyền TCTT;</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2. TT được cung cấp phải chính xác, đầy đủ;</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3. Kịp thời, minh bạch, thuận lợi cho người dân, đúng trình tự, thủ tục;</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4. Việc hạn chế quyền TCTT phải do luật định trong trường hợp cần thiết vì lý do quốc phòng, an ninh QG, TTATXH, đạo đức XH, sức khoẻ CĐ;</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5. Thực hiện quyền TCTT không được xâm phạm lợi ích QG, DT, quyền và lợi ích của CQ, TC hoặc người khác;</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6. Tạo ĐK thuận lợi cho người khuyến tật, người sinh song ở biên giới, hải đảo, mien núi, vùng có đk KT-XH đặc biêt khó khan thực hiện quyền TCTT.</a:t>
            </a:r>
            <a:endParaRPr b="0" lang="en-US" sz="2400" spc="-1" strike="noStrike">
              <a:solidFill>
                <a:srgbClr val="000000"/>
              </a:solidFill>
              <a:latin typeface="Calibri"/>
            </a:endParaRPr>
          </a:p>
          <a:p>
            <a:pPr>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04920"/>
            <a:ext cx="7886880" cy="7617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800" spc="-1" strike="noStrike">
                <a:solidFill>
                  <a:srgbClr val="000000"/>
                </a:solidFill>
                <a:latin typeface="Arial"/>
                <a:ea typeface="Arial"/>
              </a:rPr>
              <a:t>Chủ thể thực hiện quyền TCTT</a:t>
            </a:r>
            <a:endParaRPr b="0" lang="en-US" sz="3800" spc="-1" strike="noStrike">
              <a:solidFill>
                <a:srgbClr val="000000"/>
              </a:solidFill>
              <a:latin typeface="Calibri Light"/>
            </a:endParaRPr>
          </a:p>
        </p:txBody>
      </p:sp>
      <p:sp>
        <p:nvSpPr>
          <p:cNvPr id="62" name=""/>
          <p:cNvSpPr txBox="1"/>
          <p:nvPr/>
        </p:nvSpPr>
        <p:spPr>
          <a:xfrm>
            <a:off x="628560" y="1599840"/>
            <a:ext cx="7981920" cy="4724280"/>
          </a:xfrm>
          <a:prstGeom prst="rect">
            <a:avLst/>
          </a:prstGeom>
          <a:noFill/>
          <a:ln w="0">
            <a:noFill/>
          </a:ln>
        </p:spPr>
        <p:txBody>
          <a:bodyPr anchor="t">
            <a:normAutofit/>
          </a:bodyPr>
          <a:p>
            <a:pPr marL="171360" indent="-171360"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Tất cả công dân VN, gồm cả công dân VN đang định cư ở nước ngoài:</a:t>
            </a:r>
            <a:endParaRPr b="0" lang="en-US" sz="3200" spc="-1" strike="noStrike">
              <a:solidFill>
                <a:srgbClr val="000000"/>
              </a:solidFill>
              <a:latin typeface="Calibri"/>
            </a:endParaRPr>
          </a:p>
          <a:p>
            <a:pPr marL="171360" indent="-17136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 Người mất năng lực hành vi DS; người dưới 18 tuổi: người đại diện theo PL;</a:t>
            </a:r>
            <a:endParaRPr b="0" lang="en-US" sz="3200" spc="-1" strike="noStrike">
              <a:solidFill>
                <a:srgbClr val="000000"/>
              </a:solidFill>
              <a:latin typeface="Calibri"/>
            </a:endParaRPr>
          </a:p>
          <a:p>
            <a:pPr marL="171360" indent="-17136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 Người khó khăn trong nhận thức: người giám hộ.</a:t>
            </a:r>
            <a:endParaRPr b="0" lang="en-US" sz="3200" spc="-1" strike="noStrike">
              <a:solidFill>
                <a:srgbClr val="000000"/>
              </a:solidFill>
              <a:latin typeface="Calibri"/>
            </a:endParaRPr>
          </a:p>
          <a:p>
            <a:pPr marL="171360" indent="-17136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Người nước ngoài cư trú tại VN có quyền yêu cầu cung cấp TT liên quan trực tiếp đến quyền và nghĩa vụ của họ.</a:t>
            </a:r>
            <a:endParaRPr b="0" lang="en-US" sz="3200" spc="-1" strike="noStrike">
              <a:solidFill>
                <a:srgbClr val="000000"/>
              </a:solidFill>
              <a:latin typeface="Calibri"/>
            </a:endParaRPr>
          </a:p>
          <a:p>
            <a:pPr marL="171360" indent="-171360">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marL="171360" indent="-171360">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04920"/>
            <a:ext cx="7886880" cy="7617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800" spc="-1" strike="noStrike">
                <a:solidFill>
                  <a:srgbClr val="000000"/>
                </a:solidFill>
                <a:latin typeface="Arial"/>
                <a:ea typeface="Arial"/>
              </a:rPr>
              <a:t>Cách thức tiếp cận TT</a:t>
            </a:r>
            <a:endParaRPr b="0" lang="en-US" sz="3800" spc="-1" strike="noStrike">
              <a:solidFill>
                <a:srgbClr val="000000"/>
              </a:solidFill>
              <a:latin typeface="Calibri Light"/>
            </a:endParaRPr>
          </a:p>
        </p:txBody>
      </p:sp>
      <p:sp>
        <p:nvSpPr>
          <p:cNvPr id="64" name=""/>
          <p:cNvSpPr txBox="1"/>
          <p:nvPr/>
        </p:nvSpPr>
        <p:spPr>
          <a:xfrm>
            <a:off x="914400" y="2133360"/>
            <a:ext cx="7696080" cy="4190760"/>
          </a:xfrm>
          <a:prstGeom prst="rect">
            <a:avLst/>
          </a:prstGeom>
          <a:noFill/>
          <a:ln w="0">
            <a:noFill/>
          </a:ln>
        </p:spPr>
        <p:txBody>
          <a:bodyPr anchor="t">
            <a:normAutofit/>
          </a:bodyPr>
          <a:p>
            <a:pPr marL="171360" indent="-171360"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Tự do tiếp cận thông tin được cơ quan NN công khai;</a:t>
            </a:r>
            <a:endParaRPr b="0" lang="en-US" sz="3200" spc="-1" strike="noStrike">
              <a:solidFill>
                <a:srgbClr val="000000"/>
              </a:solidFill>
              <a:latin typeface="Calibri"/>
            </a:endParaRPr>
          </a:p>
          <a:p>
            <a:pPr marL="171360" indent="-17136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Yêu cầu cơ quan nhà nước cung cấp thông tin</a:t>
            </a:r>
            <a:endParaRPr b="0" lang="en-US" sz="3200" spc="-1" strike="noStrike">
              <a:solidFill>
                <a:srgbClr val="000000"/>
              </a:solidFill>
              <a:latin typeface="Calibri"/>
            </a:endParaRPr>
          </a:p>
          <a:p>
            <a:pPr marL="171360" indent="-171360">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marL="171360" indent="-171360">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04920"/>
            <a:ext cx="7886880" cy="7617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Arial"/>
                <a:ea typeface="Arial"/>
              </a:rPr>
              <a:t>Thông tin công dân được tiếp cận</a:t>
            </a:r>
            <a:endParaRPr b="0" lang="en-US" sz="3600" spc="-1" strike="noStrike">
              <a:solidFill>
                <a:srgbClr val="000000"/>
              </a:solidFill>
              <a:latin typeface="Calibri Light"/>
            </a:endParaRPr>
          </a:p>
        </p:txBody>
      </p:sp>
      <p:sp>
        <p:nvSpPr>
          <p:cNvPr id="66" name=""/>
          <p:cNvSpPr txBox="1"/>
          <p:nvPr/>
        </p:nvSpPr>
        <p:spPr>
          <a:xfrm>
            <a:off x="914400" y="1447920"/>
            <a:ext cx="7696080" cy="487656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algn="ct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600" spc="-1" strike="noStrike">
                <a:solidFill>
                  <a:srgbClr val="000000"/>
                </a:solidFill>
                <a:latin typeface="Arial"/>
                <a:ea typeface="Arial"/>
              </a:rPr>
              <a:t>Được tiếp cận mọi thông tin của cơ quan nhà nước, trừ những thông tin không được tiếp cận hoặc những thông tin tiếp cận có điều kiện.</a:t>
            </a:r>
            <a:endParaRPr b="0" lang="en-US" sz="36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22:55:01Z</dcterms:created>
  <dc:creator>PC Thien IT</dc:creator>
  <dc:description/>
  <dc:language>en-US</dc:language>
  <cp:lastModifiedBy>VanAnh</cp:lastModifiedBy>
  <cp:lastPrinted>2023-05-22T09:04:37Z</cp:lastPrinted>
  <dcterms:modified xsi:type="dcterms:W3CDTF">2023-05-22T09:06:18Z</dcterms:modified>
  <cp:revision>210</cp:revision>
  <dc:subject/>
  <dc:title>Vấn đề lồng ghép giới trong Bộ luật hình sự Việt Nam</dc:title>
</cp:coreProperties>
</file>