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FC55-18DC-44F2-A0D6-DCACD5AD05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7680" y="1233360"/>
            <a:ext cx="4440240" cy="3330720"/>
          </a:xfrm>
          <a:prstGeom prst="rect">
            <a:avLst/>
          </a:prstGeom>
          <a:ln w="0">
            <a:noFill/>
          </a:ln>
        </p:spPr>
      </p:sp>
      <p:sp>
        <p:nvSpPr>
          <p:cNvPr id="99"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BAF4-C185-45B4-9D90-72DB4C22F1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C73C0-5414-4368-ADBB-3D0078628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0BDA-BE47-415D-91A2-50552EF4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94D15-23E3-441A-9705-205C9E49F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28330-896C-44A7-AA9F-4E77E80D9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1785-7775-4CC3-BAA8-866852251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B611D-04AA-4E02-B9E1-648267996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D6217-4A91-4CC3-8113-AF8E21A4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5E96-76BF-49EC-8DEF-E82D3A264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61E78-1CC9-40CD-8626-81D08CB9A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239E-D718-456B-8604-0455C7AD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6990-2C2D-4206-9F40-20F96125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152B-7998-4245-929D-4187BC19A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A50A-C8EE-4FB4-97C0-DC3A387D8F59}"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Times New Roman"/>
                <a:ea typeface="Times New Roman"/>
              </a:rPr>
              <a:t>MỘT SỐ NỘI DUNG CƠ BẢN CỦA</a:t>
            </a:r>
            <a:br>
              <a:rPr sz="2800"/>
            </a:br>
            <a:r>
              <a:rPr b="1" lang="en-US" sz="2800" spc="-1" strike="noStrike">
                <a:solidFill>
                  <a:srgbClr val="000000"/>
                </a:solidFill>
                <a:latin typeface="Times New Roman"/>
                <a:ea typeface="Times New Roman"/>
              </a:rPr>
              <a:t> LUẬT TIẾP CẬN THÔNG TIN VÀ </a:t>
            </a:r>
            <a:br>
              <a:rPr sz="2800"/>
            </a:br>
            <a:r>
              <a:rPr b="1" lang="en-US" sz="2800" spc="-1" strike="noStrike">
                <a:solidFill>
                  <a:srgbClr val="000000"/>
                </a:solidFill>
                <a:latin typeface="Times New Roman"/>
                <a:ea typeface="Times New Roman"/>
              </a:rPr>
              <a:t>LUẬT AN NINH MẠNG</a:t>
            </a:r>
            <a:endParaRPr b="0" lang="en-US" sz="28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không được tiếp cận</a:t>
            </a:r>
            <a:endParaRPr b="0" lang="en-US" sz="3600" spc="-1" strike="noStrike">
              <a:solidFill>
                <a:srgbClr val="000000"/>
              </a:solidFill>
              <a:latin typeface="Calibri Light"/>
            </a:endParaRPr>
          </a:p>
        </p:txBody>
      </p:sp>
      <p:sp>
        <p:nvSpPr>
          <p:cNvPr id="68"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ông tin thuộc bí mật nhà nước: TT có nội dung quan trọng thuộc lĩnh vực chính trị, quốc phòng, an ninh QG, đối ngoại, KT, KH, CN và các lĩnh vực khác theo quy định của PL;</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hông tin nếu tiếp cận sẽ gây nguy hại đến lợi ích NN, ảnh hưởng xấu đến QP, ANQG, quan hệ QT, TTATXH, đạo đức XH, sức khoẻ cộng đồng; gây nguy hại điến tính mạng, cuộc song hoặc tài sản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hông tin thuộc bí mật công t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Thông tin về cuộc họp nội bộ của cơ quan N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ài liệu do cơ quan NN soạn thảo cho công việc nội bộ.</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hông tin được tiếp cận có điều kiện</a:t>
            </a:r>
            <a:endParaRPr b="0" lang="en-US" sz="3200" spc="-1" strike="noStrike">
              <a:solidFill>
                <a:srgbClr val="000000"/>
              </a:solidFill>
              <a:latin typeface="Calibri Light"/>
            </a:endParaRPr>
          </a:p>
        </p:txBody>
      </p:sp>
      <p:sp>
        <p:nvSpPr>
          <p:cNvPr id="70"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T liên quan đến bí mật kinh doanh: được tiếp cận khi có sự đồng ý của chủ sở hữu bí mật KD;</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liên quan đến bí mật đời sống riêng tư, bí mật cá nhân: được tiếp cận khi người đó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T liên quan đến bí mật gia đình: được tiếp cận khi các thành viên GĐ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Người đứng đầu CQNN quyết định việc cung cấp TT nêu trên trong trường hợp cần thiết vì lợi ích công cộng, sức khoẻ cộng đồng mà không cần có sự đồng ý của chủ sở hữu.</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Hành vi bị nghiêm cấm</a:t>
            </a:r>
            <a:endParaRPr b="0" lang="en-US" sz="3200" spc="-1" strike="noStrike">
              <a:solidFill>
                <a:srgbClr val="000000"/>
              </a:solidFill>
              <a:latin typeface="Calibri Light"/>
            </a:endParaRPr>
          </a:p>
        </p:txBody>
      </p:sp>
      <p:sp>
        <p:nvSpPr>
          <p:cNvPr id="72" name=""/>
          <p:cNvSpPr txBox="1"/>
          <p:nvPr/>
        </p:nvSpPr>
        <p:spPr>
          <a:xfrm>
            <a:off x="914400" y="1447920"/>
            <a:ext cx="7696080" cy="487656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ố ý cung cấp TT sai lệch, không đầy đủ, trì hoãn việc cung cấp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Huỷ hoại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giả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Cung cấp hoặc sử dung TT để chống lại NN, phá hoại chính sách đoàn kết, kích động bạo lự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Cung cấp hoặc sử dung TT để xúc phạm danh dự, nhân phẩm, uy tín, gây kỳ thị về giới, gây thiệt hị về TS của cá nhân, cơ quan, tổ chứ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Cản trở, đe doạ, trù dập người yêu cầu, người cung cấp TT.</a:t>
            </a:r>
            <a:endParaRPr b="0" lang="en-US" sz="24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04560"/>
            <a:ext cx="7886880" cy="990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Xử lý vi phạm</a:t>
            </a:r>
            <a:endParaRPr b="0" lang="en-US" sz="3200" spc="-1" strike="noStrike">
              <a:solidFill>
                <a:srgbClr val="000000"/>
              </a:solidFill>
              <a:latin typeface="Calibri Light"/>
            </a:endParaRPr>
          </a:p>
        </p:txBody>
      </p:sp>
      <p:sp>
        <p:nvSpPr>
          <p:cNvPr id="74" name=""/>
          <p:cNvSpPr txBox="1"/>
          <p:nvPr/>
        </p:nvSpPr>
        <p:spPr>
          <a:xfrm>
            <a:off x="914400" y="1828800"/>
            <a:ext cx="7696080" cy="44956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Người có hành vi vi phạm quy định của PL về tiếp cận TT thì tuỳ theo tính chất, mức độ vi phạm mà bị xử lý kỷ luật, xử lý vi phạm hành chính hoặc xử lý hình sự.</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Người cung cấp TT có một trong các hành vi bị nghiêm cấm, gây thiệt hại thì CQNN cung cấp TT phải bồi thường thiệt hại, cá nhân có hành vi vi phạm phải hoàn trả lại theo quy định của PL về trách nhiệm bồi thường của N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151920"/>
            <a:ext cx="7886880" cy="621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An ninh mạng</a:t>
            </a:r>
            <a:endParaRPr b="0" lang="en-US" sz="3200" spc="-1" strike="noStrike">
              <a:solidFill>
                <a:srgbClr val="000000"/>
              </a:solidFill>
              <a:latin typeface="Calibri Light"/>
            </a:endParaRPr>
          </a:p>
        </p:txBody>
      </p:sp>
      <p:sp>
        <p:nvSpPr>
          <p:cNvPr id="76" name="Rounded Rectangle 7"/>
          <p:cNvSpPr/>
          <p:nvPr/>
        </p:nvSpPr>
        <p:spPr>
          <a:xfrm>
            <a:off x="1143000" y="2198520"/>
            <a:ext cx="7467480" cy="435456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ác hành vi bị nghiêm cấ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Phòng ngừa, xử lý hành vi xâm phạm AN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ảo vệ trẻ em trên không gian mạng;</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Trách nhiệm của các cơ quan, tổ chức.</a:t>
            </a:r>
            <a:endParaRPr b="0" lang="en-US" sz="2800" spc="-1" strike="noStrike">
              <a:solidFill>
                <a:srgbClr val="000000"/>
              </a:solidFill>
              <a:latin typeface="Tahoma"/>
            </a:endParaRPr>
          </a:p>
        </p:txBody>
      </p:sp>
      <p:sp>
        <p:nvSpPr>
          <p:cNvPr id="77" name="Rounded Rectangle 8"/>
          <p:cNvSpPr/>
          <p:nvPr/>
        </p:nvSpPr>
        <p:spPr>
          <a:xfrm>
            <a:off x="1143000" y="990720"/>
            <a:ext cx="7467480" cy="99036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a:t>
            </a:r>
            <a:r>
              <a:rPr b="1" lang="en-US" sz="2400" spc="-1" strike="noStrike">
                <a:solidFill>
                  <a:srgbClr val="000000"/>
                </a:solidFill>
                <a:latin typeface="Times New Roman"/>
                <a:ea typeface="Times New Roman"/>
              </a:rPr>
              <a:t>uậ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79" name=""/>
          <p:cNvSpPr txBox="1"/>
          <p:nvPr/>
        </p:nvSpPr>
        <p:spPr>
          <a:xfrm>
            <a:off x="837720" y="1523880"/>
            <a:ext cx="7543800" cy="5029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Nguy cơ tiềm ẩn, mặt trái của sự phát triển mạng XH, trí tuệ nhân tạo.</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Diễn biến phức tạp của các cuộc tấn công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Bảo vệ chủ quyền, lợi ích QG; quyền và lợi ích của CQ, TC, cá nhân khi tham gia hoạt động trên không gian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4. Nâng cao năng lực tự chủ về an ninh mạ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81" name=""/>
          <p:cNvSpPr txBox="1"/>
          <p:nvPr/>
        </p:nvSpPr>
        <p:spPr>
          <a:xfrm>
            <a:off x="1143000" y="1981080"/>
            <a:ext cx="7238880" cy="426744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Hoạt động bảo vệ ANQG và bảo đảm TTATXH trên không gian mạng;</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Trách nhiệm của cơ quan, tổ chức, cá nhân.</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28240"/>
            <a:ext cx="78868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Các hành vi bị nghiêm cấm</a:t>
            </a:r>
            <a:endParaRPr b="0" lang="en-US" sz="4000" spc="-1" strike="noStrike">
              <a:solidFill>
                <a:srgbClr val="000000"/>
              </a:solidFill>
              <a:latin typeface="Calibri Light"/>
            </a:endParaRPr>
          </a:p>
        </p:txBody>
      </p:sp>
      <p:sp>
        <p:nvSpPr>
          <p:cNvPr id="83" name=""/>
          <p:cNvSpPr txBox="1"/>
          <p:nvPr/>
        </p:nvSpPr>
        <p:spPr>
          <a:xfrm>
            <a:off x="761760" y="1066680"/>
            <a:ext cx="7753320" cy="56390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Sử dung không gian mạng, CNTT, phương tiện điện tử để VPPL về ANQG, TTATXH;</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ổ chức, hoạt động, câu kết, xúi giục, mua chuộc, lừa gạt, lôi kéo, đào tạo, huấn luyện người chống nhà nướ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Xuyên tạc lịch sử, phủ nhận thành tựu cách mạng, phá hoại khối đại đoàn kết toàn dân tộc, xúc phạm tôn giáo, phân biệt đối xử về giới, phân biệt chủng tộ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hông tin sau sự that gây hoang mang trong ND, gây thiệt hại cho hoạt động KT-XH, gây khó khan cho hoạt động củ QCNN hoặc người thi hành công vụ; xâm phạm quyền và lợi ích của CQ, TC, cá nhân;</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Hoạt động mại dâm, tệ nạn XH, mua bán người; đăng tải thông tin dâm ô, đồi truỵ, tội ác; phá hoại thuần phong mỹ tục, đạo đức XH, sức khoẻ cộng đồ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Xúi giục, kích động, lôi kéo người khác phạm tộ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Phòng ngừa, xử lý hành vi </a:t>
            </a:r>
            <a:br>
              <a:rPr sz="3200"/>
            </a:br>
            <a:r>
              <a:rPr b="1" lang="en-US" sz="3200" spc="-1" strike="noStrike">
                <a:solidFill>
                  <a:srgbClr val="000000"/>
                </a:solidFill>
                <a:latin typeface="Arial"/>
                <a:ea typeface="Arial"/>
              </a:rPr>
              <a:t>xâm phạm an ninh mạng</a:t>
            </a:r>
            <a:endParaRPr b="0" lang="en-US" sz="3200" spc="-1" strike="noStrike">
              <a:solidFill>
                <a:srgbClr val="000000"/>
              </a:solidFill>
              <a:latin typeface="Calibri Light"/>
            </a:endParaRPr>
          </a:p>
        </p:txBody>
      </p:sp>
      <p:sp>
        <p:nvSpPr>
          <p:cNvPr id="85" name=""/>
          <p:cNvSpPr txBox="1"/>
          <p:nvPr/>
        </p:nvSpPr>
        <p:spPr>
          <a:xfrm>
            <a:off x="838080" y="1371240"/>
            <a:ext cx="7886880" cy="5257800"/>
          </a:xfrm>
          <a:prstGeom prst="rect">
            <a:avLst/>
          </a:prstGeom>
          <a:noFill/>
          <a:ln w="0">
            <a:noFill/>
          </a:ln>
        </p:spPr>
        <p:txBody>
          <a:bodyPr anchor="t">
            <a:normAutofit fontScale="99000"/>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Nhận diện các thông tin, hành vi trên không gian mạng là vi phạm ANM trong các lĩnh vực:</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uyên truyền chống phá NN, kích động, gây bạo loạn, phá rối AN, gây rối TTCC, làm nhục, vu khống; xâm phạm TTQLK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Gián điệp mạng, bảo vệ TT bí mật NN, bí mật công tác, bí mật KD, bí mật cá nhân, gia đình và đời số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ử dụng không gian mạng, CNTT, phương tiện điện tử để VPPL về ANQG, TTATXH.</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ành vi tấn công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ình huống nguy hiểm về ANM.</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ác biện pháp phòng ngừa, xử lý; trách nhiệm của các bộ, ngàn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Gián điệp mạng, xâm phạm bí mật NN, bí mật công tác, bí mật KD, bí mật cá nhân, gia đình</a:t>
            </a:r>
            <a:endParaRPr b="0" lang="en-US" sz="2800" spc="-1" strike="noStrike">
              <a:solidFill>
                <a:srgbClr val="000000"/>
              </a:solidFill>
              <a:latin typeface="Calibri Light"/>
            </a:endParaRPr>
          </a:p>
        </p:txBody>
      </p:sp>
      <p:sp>
        <p:nvSpPr>
          <p:cNvPr id="87"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hiếm đoạt, mua bán, thu giữ, cố ý làm lộ TT thuộc bí mật NN, bí mật công tác, bí mật KD, bí mật cá nhân, gia đình và đời sống riêng tư;</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xoá, làm hư hỏng, thất lạc, thay đổi TT bí mật NN… được truyền đưa, lưu giữ trên không gian mạng;</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thay đổi, huỷ bỏ hoặc làm vô hiệu hoá biện pháp lỹ thuật được áp dụng để bảo vệ TT bí mật NN…;</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Đưa lên không gian mạng những thông tin bí mật NN… trái PL;</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nghe, ghi âm, ghi hình trái phép các cuộc đàm thoạ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151920"/>
            <a:ext cx="78868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tiếp cận thông tin</a:t>
            </a:r>
            <a:endParaRPr b="0" lang="en-US" sz="3200" spc="-1" strike="noStrike">
              <a:solidFill>
                <a:srgbClr val="000000"/>
              </a:solidFill>
              <a:latin typeface="Calibri Light"/>
            </a:endParaRPr>
          </a:p>
        </p:txBody>
      </p:sp>
      <p:sp>
        <p:nvSpPr>
          <p:cNvPr id="51" name="Rounded Rectangle 3"/>
          <p:cNvSpPr/>
          <p:nvPr/>
        </p:nvSpPr>
        <p:spPr>
          <a:xfrm>
            <a:off x="1371600" y="1066680"/>
            <a:ext cx="7238880" cy="76212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uật</a:t>
            </a:r>
            <a:endParaRPr b="0" lang="en-US" sz="2800" spc="-1" strike="noStrike">
              <a:solidFill>
                <a:srgbClr val="000000"/>
              </a:solidFill>
              <a:latin typeface="Tahoma"/>
            </a:endParaRPr>
          </a:p>
        </p:txBody>
      </p:sp>
      <p:sp>
        <p:nvSpPr>
          <p:cNvPr id="52" name="Rounded Rectangle 6"/>
          <p:cNvSpPr/>
          <p:nvPr/>
        </p:nvSpPr>
        <p:spPr>
          <a:xfrm>
            <a:off x="1371600" y="2122560"/>
            <a:ext cx="7238880" cy="42782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Nguyên tắc bảo đảm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hủ thể thực hiện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ch thức tiếp cận thông ti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hạm vi thông tin được tiếp cậ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ành vi bị nghiêm cấ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Xử lý vi phạm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Sử dụng không gian mạng, CNTT, phương tiện điện tử để VPPL</a:t>
            </a:r>
            <a:endParaRPr b="0" lang="en-US" sz="3200" spc="-1" strike="noStrike">
              <a:solidFill>
                <a:srgbClr val="000000"/>
              </a:solidFill>
              <a:latin typeface="Calibri Light"/>
            </a:endParaRPr>
          </a:p>
        </p:txBody>
      </p:sp>
      <p:sp>
        <p:nvSpPr>
          <p:cNvPr id="89"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Đăng tải, phát tán TT trên không gian mạng có nội dung chống phá NN, gây bạo loạn, phá rối AN, làm nhục, vu khống; nội dung thuộc bí mật NN, bí mật công tác, bí mật KD, bí mật cá nhân, gia đình và đời so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hiếm đoạt TS, tổ chức đánh bạc, đánh bạc qua mạng, trộm cắp cước viễn thông quốc tế trên nền Internet; vi phạm bản quyền và quyền SHTT trên không gian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uyên truyền, quảng cáo, mua bán hàng hoá, dịch vụ thuộc danh mục cấ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Hướng dẫn người khác thực hiện hành vi VPPL.</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Giả mạo trang TTĐT của CQ, TC, cá nhân; làm giả, lưu hành, trộm cắp, mua bán, thu thập, trao đổi trái phép TT thẻ tín dung, tài khoản NH của người khá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Bảo vệ trẻ em trên không gian mạng</a:t>
            </a:r>
            <a:endParaRPr b="0" lang="en-US" sz="3200" spc="-1" strike="noStrike">
              <a:solidFill>
                <a:srgbClr val="000000"/>
              </a:solidFill>
              <a:latin typeface="Calibri Light"/>
            </a:endParaRPr>
          </a:p>
        </p:txBody>
      </p:sp>
      <p:sp>
        <p:nvSpPr>
          <p:cNvPr id="91" name=""/>
          <p:cNvSpPr txBox="1"/>
          <p:nvPr/>
        </p:nvSpPr>
        <p:spPr>
          <a:xfrm>
            <a:off x="1142640" y="1523520"/>
            <a:ext cx="739620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TE có quyền được bảo vệ, tiếp cận thông tin, tham gia hoạt động XH, vui chơi, giải trí, giữ bí mật cá nhân, đời sống riêng tư khi tham gia trên không gian mạng.</a:t>
            </a:r>
            <a:endParaRPr b="0" lang="en-US" sz="28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Các DN cung cấp dịch vụ có trách nhiệm kiểm soát nội dung thông tin; ngăn chặn việc chia sẻ và xoá bỏ thông tin có nội dung gây hại cho TE, xâm phạm đến 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Lực lượng bảo vệ an ninh mạng</a:t>
            </a:r>
            <a:endParaRPr b="0" lang="en-US" sz="3600" spc="-1" strike="noStrike">
              <a:solidFill>
                <a:srgbClr val="000000"/>
              </a:solidFill>
              <a:latin typeface="Calibri Light"/>
            </a:endParaRPr>
          </a:p>
        </p:txBody>
      </p:sp>
      <p:sp>
        <p:nvSpPr>
          <p:cNvPr id="93" name=""/>
          <p:cNvSpPr txBox="1"/>
          <p:nvPr/>
        </p:nvSpPr>
        <p:spPr>
          <a:xfrm>
            <a:off x="1066320" y="1599840"/>
            <a:ext cx="7472520" cy="47242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chuyên trách bảo vệ an ninh mạng được bố trí tại Bộ Công an và Bộ Quốc phòn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bảo vệ an ninh mạng được bố trí tại Bộ, ngành, Uỷ ban nhân dân cấp tỉnh, cơ quan quản lý trực tiếp hệ thống thông tin quan trọng về ANQ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Tổ chức, cá nhân được huy độ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52320" y="38088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Xử lý vi phạm</a:t>
            </a:r>
            <a:endParaRPr b="0" lang="en-US" sz="3600" spc="-1" strike="noStrike">
              <a:solidFill>
                <a:srgbClr val="000000"/>
              </a:solidFill>
              <a:latin typeface="Calibri Light"/>
            </a:endParaRPr>
          </a:p>
        </p:txBody>
      </p:sp>
      <p:sp>
        <p:nvSpPr>
          <p:cNvPr id="95" name=""/>
          <p:cNvSpPr txBox="1"/>
          <p:nvPr/>
        </p:nvSpPr>
        <p:spPr>
          <a:xfrm>
            <a:off x="1066320" y="1905120"/>
            <a:ext cx="7472520" cy="441936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Người nào có hành vi vi phạm quy định của Luật này, tuỳ tính chất, mức độ vi phạm mà bị xử lý kỷ luật, xử lý vi phạm hành chính hoặc truy cứu trách nhiệm hình sự. Nếu gây thiệt hại thì phải bồi thường theo quy định cuả pháp luậ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54" name=""/>
          <p:cNvSpPr txBox="1"/>
          <p:nvPr/>
        </p:nvSpPr>
        <p:spPr>
          <a:xfrm>
            <a:off x="1143000" y="1523880"/>
            <a:ext cx="7238880" cy="419112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Thể chế hoá quy định của HP 2013 về quyền được tiếp cận thông tin của công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Phù hợp với sự phát triển của thực tiễn cuộc sống, đáp ứng nhu cầu của người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Phù hợp với yêu cầu hội nhập quốc t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Bố cục</a:t>
            </a:r>
            <a:endParaRPr b="0" lang="en-US" sz="4000" spc="-1" strike="noStrike">
              <a:solidFill>
                <a:srgbClr val="000000"/>
              </a:solidFill>
              <a:latin typeface="Calibri Light"/>
            </a:endParaRPr>
          </a:p>
        </p:txBody>
      </p:sp>
      <p:sp>
        <p:nvSpPr>
          <p:cNvPr id="56" name=""/>
          <p:cNvSpPr txBox="1"/>
          <p:nvPr/>
        </p:nvSpPr>
        <p:spPr>
          <a:xfrm>
            <a:off x="1143000" y="1447560"/>
            <a:ext cx="7238880" cy="480060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05 chương, 37 điề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 Những quy định chung</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 Công khai thông tin</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I: Cung cấp thông tin theo yêu cầ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V: Trách nhiệm bảo đảm thực hiện quyền tiếp cận TT của CD</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V: Điều khoản thi hàn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58" name=""/>
          <p:cNvSpPr txBox="1"/>
          <p:nvPr/>
        </p:nvSpPr>
        <p:spPr>
          <a:xfrm>
            <a:off x="1143000" y="1676520"/>
            <a:ext cx="7238880" cy="457200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Thực hiện quyền tiếp cận TT của CD;</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uyên tắc, trình tự, thủ tục thực hiện quyền tiếp cận TT;</a:t>
            </a:r>
            <a:endParaRPr b="0" lang="en-US" sz="36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Trách nhiệm, nghĩa vụ của cơ quan nhà nước trong việc bảo đảm quyền tiếp cận TT của CD</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Nguyên tắc bảo đảm quyền TCTT</a:t>
            </a:r>
            <a:endParaRPr b="0" lang="en-US" sz="3800" spc="-1" strike="noStrike">
              <a:solidFill>
                <a:srgbClr val="000000"/>
              </a:solidFill>
              <a:latin typeface="Calibri Light"/>
            </a:endParaRPr>
          </a:p>
        </p:txBody>
      </p:sp>
      <p:sp>
        <p:nvSpPr>
          <p:cNvPr id="60" name=""/>
          <p:cNvSpPr txBox="1"/>
          <p:nvPr/>
        </p:nvSpPr>
        <p:spPr>
          <a:xfrm>
            <a:off x="628560" y="1219320"/>
            <a:ext cx="8134560" cy="53337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Bình đẳng, không bị phân biệt đối xử trong thực hiện quyền TCT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được cung cấp phải chính xác, đầy đủ;</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Kịp thời, minh bạch, thuận lợi cho người dân, đúng trình tự, thủ tụ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Việc hạn chế quyền TCTT phải do luật định trong trường hợp cần thiết vì lý do quốc phòng, an ninh QG, TTATXH, đạo đức XH, sức khoẻ CĐ;</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ực hiện quyền TCTT không được xâm phạm lợi ích QG, DT, quyền và lợi ích của CQ, TC hoặc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Tạo ĐK thuận lợi cho người khuyến tật, người sinh song ở biên giới, hải đảo, mien núi, vùng có đk KT-XH đặc biêt khó khan thực hiện quyền TCTT.</a:t>
            </a:r>
            <a:endParaRPr b="0" lang="en-US" sz="2400" spc="-1" strike="noStrike">
              <a:solidFill>
                <a:srgbClr val="000000"/>
              </a:solidFill>
              <a:latin typeface="Calibri"/>
            </a:endParaRPr>
          </a:p>
          <a:p>
            <a:pPr>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hủ thể thực hiện quyền TCTT</a:t>
            </a:r>
            <a:endParaRPr b="0" lang="en-US" sz="3800" spc="-1" strike="noStrike">
              <a:solidFill>
                <a:srgbClr val="000000"/>
              </a:solidFill>
              <a:latin typeface="Calibri Light"/>
            </a:endParaRPr>
          </a:p>
        </p:txBody>
      </p:sp>
      <p:sp>
        <p:nvSpPr>
          <p:cNvPr id="62" name=""/>
          <p:cNvSpPr txBox="1"/>
          <p:nvPr/>
        </p:nvSpPr>
        <p:spPr>
          <a:xfrm>
            <a:off x="628560" y="1599840"/>
            <a:ext cx="7981920" cy="472428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ất cả công dân VN, gồm cả công dân VN đang định cư ở nước ngoà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mất năng lực hành vi DS; người dưới 18 tuổi: người đại diện theo PL;</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khó khăn trong nhận thức: người giám hộ.</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Người nước ngoài cư trú tại VN có quyền yêu cầu cung cấp TT liên quan trực tiếp đến quyền và nghĩa vụ của họ.</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ách thức tiếp cận TT</a:t>
            </a:r>
            <a:endParaRPr b="0" lang="en-US" sz="3800" spc="-1" strike="noStrike">
              <a:solidFill>
                <a:srgbClr val="000000"/>
              </a:solidFill>
              <a:latin typeface="Calibri Light"/>
            </a:endParaRPr>
          </a:p>
        </p:txBody>
      </p:sp>
      <p:sp>
        <p:nvSpPr>
          <p:cNvPr id="64" name=""/>
          <p:cNvSpPr txBox="1"/>
          <p:nvPr/>
        </p:nvSpPr>
        <p:spPr>
          <a:xfrm>
            <a:off x="914400" y="2133360"/>
            <a:ext cx="7696080" cy="419076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Tự do tiếp cận thông tin được cơ quan NN công kha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Yêu cầu cơ quan nhà nước cung cấp thông tin</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công dân được tiếp cận</a:t>
            </a:r>
            <a:endParaRPr b="0" lang="en-US" sz="3600" spc="-1" strike="noStrike">
              <a:solidFill>
                <a:srgbClr val="000000"/>
              </a:solidFill>
              <a:latin typeface="Calibri Light"/>
            </a:endParaRPr>
          </a:p>
        </p:txBody>
      </p:sp>
      <p:sp>
        <p:nvSpPr>
          <p:cNvPr id="66"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gn="ct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600" spc="-1" strike="noStrike">
                <a:solidFill>
                  <a:srgbClr val="000000"/>
                </a:solidFill>
                <a:latin typeface="Arial"/>
                <a:ea typeface="Arial"/>
              </a:rPr>
              <a:t>Được tiếp cận mọi thông tin của cơ quan nhà nước, trừ những thông tin không được tiếp cận hoặc những thông tin tiếp cận có điều kiện.</a:t>
            </a:r>
            <a:endParaRPr b="0" lang="en-US" sz="36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9:04:37Z</cp:lastPrinted>
  <dcterms:modified xsi:type="dcterms:W3CDTF">2023-05-22T09:06:18Z</dcterms:modified>
  <cp:revision>210</cp:revision>
  <dc:subject/>
  <dc:title>Vấn đề lồng ghép giới trong Bộ luật hình sự Việt Nam</dc:title>
</cp:coreProperties>
</file>